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4098600"/>
            <a:ext cx="7543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409860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27440" y="409860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4098600"/>
            <a:ext cx="2428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360" y="4098600"/>
            <a:ext cx="2428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3320" y="4098600"/>
            <a:ext cx="2428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1760" y="409860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27440" y="409860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1760" y="4098600"/>
            <a:ext cx="7543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61760" y="4098600"/>
            <a:ext cx="7543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409860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27440" y="409860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61760" y="4098600"/>
            <a:ext cx="2428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2360" y="4098600"/>
            <a:ext cx="2428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3320" y="4098600"/>
            <a:ext cx="2428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409860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27440" y="409860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4098600"/>
            <a:ext cx="7543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23520"/>
            <a:ext cx="75438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61760" y="1523520"/>
            <a:ext cx="75438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4944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Arial"/>
              </a:rPr>
              <a:t>Group Dynamics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348000" y="5516640"/>
            <a:ext cx="541008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s of Team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the-human-car-2"/>
          <p:cNvPicPr/>
          <p:nvPr/>
        </p:nvPicPr>
        <p:blipFill>
          <a:blip r:embed="rId2"/>
          <a:stretch/>
        </p:blipFill>
        <p:spPr>
          <a:xfrm>
            <a:off x="1547640" y="1916280"/>
            <a:ext cx="597384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Making of the Ford commercial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youtube.com/watch?v=AjJBpG-UC9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written report (INDIVIDUAL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down the five team development stag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details on how your group moved through the 5 stages through a recent group project in a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done in point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marks (appli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 Tuesday May 19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552000" y="304920"/>
            <a:ext cx="27428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d Human Car 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youtube.com/watch?v=9-Qu_A9BZi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roup Dynamic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enomenon that occurs in groups based upon their interactions and relation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behaviours may differ from their behaviour in a group, depending on the individual’s connection to the gro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tages of Group Developmen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distinct phases in the life cycle of any te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m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a stage of initial orientation and interpersonal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orm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a stage of conflict over tasks and working as a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rm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a stage of consolidation around task and operating agen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erform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a stage of teamwork and focus task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djour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a stage of task completion and diseng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6552000" y="304920"/>
            <a:ext cx="27428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Forming Stage - IDENTIFYING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057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entry of individual members into tea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ask themsel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or does this team offe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I be asked to contribu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my needs be met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begin to identify with other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align with members who seem “powerful” or influ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552000" y="304920"/>
            <a:ext cx="27428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torming Stage - EMOTION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553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emo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ns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y emerge over tasks/interpersonal concer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hostility and infighting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litions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qu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y form around personalities, views or interest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agendas become clarified, focus begins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ft from obstacles to task accomplish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Teamwork--C10286673"/>
          <p:cNvPicPr/>
          <p:nvPr/>
        </p:nvPicPr>
        <p:blipFill>
          <a:blip r:embed="rId2"/>
          <a:stretch/>
        </p:blipFill>
        <p:spPr>
          <a:xfrm>
            <a:off x="5724360" y="2060640"/>
            <a:ext cx="2856240" cy="3672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6552000" y="304920"/>
            <a:ext cx="27428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Norming Stage - COOPER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becomes coordinated as a working unit, operates with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red rules of condu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mo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mphasized, but minority viewpoints may be discourag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lings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se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ense of shared expectations protects team from disintegr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ding the team toge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y be more important than successful task accompl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552000" y="304920"/>
            <a:ext cx="27428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Performing Stage - STABILITY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50920" y="1413000"/>
            <a:ext cx="5041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im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integration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s deal in creative ways with complex tasks and interpersonal conflict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operates in 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 and stabl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s are motivated by team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challenge is the need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ine the operations to meet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teamwork"/>
          <p:cNvPicPr/>
          <p:nvPr/>
        </p:nvPicPr>
        <p:blipFill>
          <a:blip r:embed="rId2"/>
          <a:stretch/>
        </p:blipFill>
        <p:spPr>
          <a:xfrm>
            <a:off x="395280" y="1484280"/>
            <a:ext cx="3352680" cy="49291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6552000" y="304920"/>
            <a:ext cx="27428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djourning Stage-ACCOMPLISHMEN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4889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members prepare to achie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disband from each other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teams disband with a sense that important goals have been accomplish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knowledged for  contribu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group’s success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s like to disband with members feeling they would work with one another again,  does not always happe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Teamwork"/>
          <p:cNvPicPr/>
          <p:nvPr/>
        </p:nvPicPr>
        <p:blipFill>
          <a:blip r:embed="rId2"/>
          <a:stretch/>
        </p:blipFill>
        <p:spPr>
          <a:xfrm>
            <a:off x="5867280" y="2133720"/>
            <a:ext cx="2457720" cy="3809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6551280" y="620640"/>
            <a:ext cx="27428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0:33:08Z</dcterms:created>
  <dc:creator>Angelo &amp; Kelly Tsarouhas</dc:creator>
  <dc:description/>
  <cp:keywords/>
  <dc:language>en-US</dc:language>
  <cp:lastModifiedBy>User</cp:lastModifiedBy>
  <dcterms:modified xsi:type="dcterms:W3CDTF">2009-05-12T20:22:03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1033</vt:lpwstr>
  </property>
</Properties>
</file>