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A00-7CE7-4B69-BC99-A514B246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F56-3493-49A3-87AA-35A99E67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54B-3408-4257-9B17-3DC79E1C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F62-803A-49E2-8051-D114738E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0020-4662-4BF6-82F8-A5E5715D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B763-0882-4A67-B96E-883A1AC8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0EB8-9D5C-499E-A888-89FB7B80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4477-CA1F-409A-92CA-E1A0D29D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AB1D-47FB-4351-ABEF-8A10CF76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8DE2-79FE-435B-ADA5-BC4E78D7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6A80-8B7A-4AD6-A013-BCF6497E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891-F5B5-4B2B-A184-8723D6C1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28DC-9607-47ED-97AA-D9679CC4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11F8-DCB7-4F18-AA83-AF3A3D21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60E4-B8D3-4FCB-B6E5-7807980D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041A-A9FA-408B-9A60-FE5FDFF1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130E-D7AB-479C-969E-D45329AE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DB0-6A89-41B7-ADF6-973681E8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67F-9C77-4018-B12D-D72423D8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4E0-3A50-4363-8C2C-61235598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702-8ED5-446E-9693-546AF880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F27-0E72-4419-9048-BFF6CACB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369-7B09-4561-AA9D-42E70546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EB7-926B-4C53-BBF0-FF26AF55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7A5B-D13A-445E-8ED6-A6D0CE911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46B8-870D-40F9-A4D6-D762360D9AF7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Group%20Dynamics%20Life%20Raft%20Exercise.doc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flict Resolut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3" name="Picture 3" descr="http://rds.yahoo.com/_ylt=A9iby4L5uv5F8koA5lSjzbkF;_ylu=X3oDMTBsMW5yM3VoBHNlYwNwcm9mBHZ0aWQDSTA2Nl84OA--/SIG=12ltha21k/EXP=1174408313/**http%3A//www.davcorp.com.au/upload/Conflict_Resolution_1_medium.JPG"/>
          <p:cNvPicPr/>
          <p:nvPr/>
        </p:nvPicPr>
        <p:blipFill>
          <a:blip r:embed="rId1"/>
          <a:stretch/>
        </p:blipFill>
        <p:spPr>
          <a:xfrm>
            <a:off x="3962520" y="657360"/>
            <a:ext cx="3429000" cy="277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ttp://www.youtube.com/results?search_type=&amp;search_query=v%3D6ggykHMpEhE&amp;aq=f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flict Resolut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010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nflict resolution is the process of resolving a dispute or a conflict, by providing each side's needs, and adequately addressing their interests so that they are satisfied with the outcome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nflict resolution aims to end conflicts before they start or lead to physical fighting. 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495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 pairs, brainstorm possible ways to resolve a conflict.  Separate these strategies into healthy and unhealthy method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0" name="Picture 4" descr="conflict3"/>
          <p:cNvPicPr/>
          <p:nvPr/>
        </p:nvPicPr>
        <p:blipFill>
          <a:blip r:embed="rId1"/>
          <a:stretch/>
        </p:blipFill>
        <p:spPr>
          <a:xfrm>
            <a:off x="380880" y="1828800"/>
            <a:ext cx="4343400" cy="421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Positive Methods for Conflict Resolutio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upport of upper management to resolve issu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alk the issue through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Hear both sides of the story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ompromis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hanging team members (if both members in the conflict agree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Keep positive attitude during discussion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Negative Methods for Conflict Resolutio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fusing to list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gh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reaten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erbal abus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aking a unilateral decis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ot compromis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flict Resolution Strategi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uggest that the two parties meet in a “neutral” location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Welcome the parties involved and make them feel comfortable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Explain the purpose of the meeting – identify the conflict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sk questions and listen actively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emain neutral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7" name="Picture 4" descr="http://rds.yahoo.com/_ylt=A9iby4d_u_5Fy_gAxHWjzbkF;_ylu=X3oDMTBsMW5yM3VoBHNlYwNwcm9mBHZ0aWQDSTA2Nl84OA--/SIG=12cen7704/EXP=1174408447/**http%3A//jawbonepublishing.com/images/business_meeting.jpg"/>
          <p:cNvPicPr/>
          <p:nvPr/>
        </p:nvPicPr>
        <p:blipFill>
          <a:blip r:embed="rId1"/>
          <a:stretch/>
        </p:blipFill>
        <p:spPr>
          <a:xfrm>
            <a:off x="6019920" y="2362320"/>
            <a:ext cx="2925720" cy="292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flict Resolution Strategi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rovide each party an opportunity to speak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aintain a positive environment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acilitate the resolving of the conflict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Write or orally agree on a compromise or solution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Bring closure to the session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ollow up later to ensure problems are resolved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0" name="Picture 4" descr="http://rds.yahoo.com/_ylt=A9iby4Gpu_5FktQAkT.jzbkF;_ylu=X3oDMTBsMW5yM3VoBHNlYwNwcm9mBHZ0aWQDSTA2Nl84OA--/SIG=12dgqipci/EXP=1174408489/**http%3A//www.wright.edu/~scott.williams/skills/conflict.jpg"/>
          <p:cNvPicPr/>
          <p:nvPr/>
        </p:nvPicPr>
        <p:blipFill>
          <a:blip r:embed="rId1"/>
          <a:stretch/>
        </p:blipFill>
        <p:spPr>
          <a:xfrm>
            <a:off x="5943600" y="2514600"/>
            <a:ext cx="2971800" cy="253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xercise: </a:t>
            </a:r>
            <a:r>
              <a:rPr b="0" lang="en-US" sz="4400" spc="-1" strike="noStrike" u="sng">
                <a:solidFill>
                  <a:srgbClr val="377b89"/>
                </a:solidFill>
                <a:uFillTx/>
                <a:latin typeface="Tahoma"/>
                <a:hlinkClick r:id="rId1"/>
              </a:rPr>
              <a:t>Life Raf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2" name="Picture 4" descr="Castaway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867280" y="685800"/>
            <a:ext cx="2001960" cy="29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0:31:55Z</dcterms:created>
  <dc:creator>Angelo &amp; Kelly Tsarouhas</dc:creator>
  <dc:description/>
  <cp:keywords/>
  <dc:language>en-US</dc:language>
  <cp:lastModifiedBy>User</cp:lastModifiedBy>
  <dcterms:modified xsi:type="dcterms:W3CDTF">2009-12-03T20:01:49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