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D66-253E-49BC-B952-8981C880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E5F-3ABE-42A8-94D2-D3B56C8A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C79-EE9A-4B57-8939-5CEC21C0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9CE-AFB0-4C65-8FFA-0AA800B2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B90-D193-4FE5-9C7F-A5550097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B96E-E1E3-42BE-B5E7-14407D87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A1C-74D8-4126-8383-07DAB84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02C-DAB3-430C-AAAF-109D7C31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BA32-19AF-4007-98D7-AF12C525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FCB-CD19-4EEB-BA6C-7137B1C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2D9-342B-4AA2-923B-7012F60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82A-DE46-4EDE-9748-E61ADD6F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A43-EABC-4E90-ACA5-E2480FF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932-2289-4BCE-9688-1DEA777E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BF8-12EF-4D89-AB43-82E6E803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D7FE-FFCD-4DA9-818A-AAB148D2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9BAA-F644-4AC2-AB60-111B5D59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BD3-DC5E-4464-AFB7-1245A2E2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27B-9E15-40D3-A460-B9FF45A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DC1-005E-48B6-802B-EBCF5B4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17C-5C61-4AC2-B661-ACAB47D8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425-9766-4786-BED6-EFC0E37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A68-F78E-4C86-A038-54F508D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F42-A975-47A8-AC62-CD5765A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36F8-B487-476F-B17B-B87160C4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9C17-D978-4D31-B7F0-5F48E730033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Group%20Dynamics%20Life%20Raft%20Exercise.doc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3" name="Picture 3" descr="http://rds.yahoo.com/_ylt=A9iby4L5uv5F8koA5lSjzbkF;_ylu=X3oDMTBsMW5yM3VoBHNlYwNwcm9mBHZ0aWQDSTA2Nl84OA--/SIG=12ltha21k/EXP=1174408313/**http%3A//www.davcorp.com.au/upload/Conflict_Resolution_1_medium.JPG"/>
          <p:cNvPicPr/>
          <p:nvPr/>
        </p:nvPicPr>
        <p:blipFill>
          <a:blip r:embed="rId1"/>
          <a:stretch/>
        </p:blipFill>
        <p:spPr>
          <a:xfrm>
            <a:off x="3962520" y="657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http://www.youtube.com/results?search_type=&amp;search_query=v%3D6ggykHMpEhE&amp;aq=f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flict resolution is the process of resolving a dispute or a conflict, by providing each side's needs, and adequately addressing their interests so that they are satisfied with the outcome.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flict resolution aims to end conflicts before they start or lead to physical fighting. </a:t>
            </a:r>
            <a:br>
              <a:rPr sz="2800"/>
            </a:b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4495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 pairs, brainstorm possible ways to resolve a conflict.  Separate these strategies into healthy and unhealthy methods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Picture 4" descr="conflict3"/>
          <p:cNvPicPr/>
          <p:nvPr/>
        </p:nvPicPr>
        <p:blipFill>
          <a:blip r:embed="rId1"/>
          <a:stretch/>
        </p:blipFill>
        <p:spPr>
          <a:xfrm>
            <a:off x="380880" y="1828800"/>
            <a:ext cx="4343400" cy="421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Positive Methods for Conflict Resolu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upport of upper management to resolve issu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alk the issue through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Hear both sides of the story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mpromi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hanging team members (if both members in the conflict agree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Keep positive attitude during discuss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Negative Methods for Conflict Resolution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fusing to liste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ght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reate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erbal abus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king a unilateral decis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ot compromis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 Strategi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uggest that the two parties meet in a “neutral” locat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elcome the parties involved and make them feel comfortable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xplain the purpose of the meeting – identify the conflic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sk questions and listen actively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main neutral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Picture 4" descr="http://rds.yahoo.com/_ylt=A9iby4d_u_5Fy_gAxHWjzbkF;_ylu=X3oDMTBsMW5yM3VoBHNlYwNwcm9mBHZ0aWQDSTA2Nl84OA--/SIG=12cen7704/EXP=1174408447/**http%3A//jawbonepublishing.com/images/business_meeting.jpg"/>
          <p:cNvPicPr/>
          <p:nvPr/>
        </p:nvPicPr>
        <p:blipFill>
          <a:blip r:embed="rId1"/>
          <a:stretch/>
        </p:blipFill>
        <p:spPr>
          <a:xfrm>
            <a:off x="6019920" y="2362320"/>
            <a:ext cx="2925720" cy="292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flict Resolution Strategie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ovide each party an opportunity to speak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intain a positive environmen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acilitate the resolving of the conflict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rite or orally agree on a compromise or solut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ring closure to the session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c605f"/>
              </a:buClr>
              <a:buSzPct val="7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ollow up later to ensure problems are resolved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0" name="Picture 4" descr="http://rds.yahoo.com/_ylt=A9iby4Gpu_5FktQAkT.jzbkF;_ylu=X3oDMTBsMW5yM3VoBHNlYwNwcm9mBHZ0aWQDSTA2Nl84OA--/SIG=12dgqipci/EXP=1174408489/**http%3A//www.wright.edu/~scott.williams/skills/conflict.jpg"/>
          <p:cNvPicPr/>
          <p:nvPr/>
        </p:nvPicPr>
        <p:blipFill>
          <a:blip r:embed="rId1"/>
          <a:stretch/>
        </p:blipFill>
        <p:spPr>
          <a:xfrm>
            <a:off x="5943600" y="2514600"/>
            <a:ext cx="2971800" cy="253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ercise: </a:t>
            </a:r>
            <a:r>
              <a:rPr b="0" lang="en-US" sz="4400" spc="-1" strike="noStrike" u="sng">
                <a:solidFill>
                  <a:srgbClr val="377b89"/>
                </a:solidFill>
                <a:uFillTx/>
                <a:latin typeface="Tahoma"/>
                <a:hlinkClick r:id="rId1"/>
              </a:rPr>
              <a:t>Life Raf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2" name="Picture 4" descr="Castaway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867280" y="685800"/>
            <a:ext cx="200196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1:55Z</dcterms:created>
  <dc:creator>Angelo &amp; Kelly Tsarouhas</dc:creator>
  <dc:description/>
  <cp:keywords/>
  <dc:language>en-US</dc:language>
  <cp:lastModifiedBy>User</cp:lastModifiedBy>
  <dcterms:modified xsi:type="dcterms:W3CDTF">2009-12-03T20:01:49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33</vt:lpwstr>
  </property>
</Properties>
</file>