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1593720"/>
            <a:ext cx="79916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040" y="4244760"/>
            <a:ext cx="79916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593720"/>
            <a:ext cx="38998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09400" y="1593720"/>
            <a:ext cx="38998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4244760"/>
            <a:ext cx="38998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09400" y="4244760"/>
            <a:ext cx="38998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1593720"/>
            <a:ext cx="257292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15840" y="1593720"/>
            <a:ext cx="257292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18000" y="1593720"/>
            <a:ext cx="257292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040" y="4244760"/>
            <a:ext cx="257292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15840" y="4244760"/>
            <a:ext cx="257292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18000" y="4244760"/>
            <a:ext cx="257292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A8E5-EB9B-4956-BE7D-EEAEAEF07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14040" y="1593720"/>
            <a:ext cx="799164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D8A5-FBE3-4701-957A-B57A498C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040" y="1593720"/>
            <a:ext cx="79916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09CA-5961-4A94-B28D-9856182A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040" y="1593720"/>
            <a:ext cx="38998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09400" y="1593720"/>
            <a:ext cx="38998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E97D-F3F2-4293-BF1C-96A5CBB8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440D-E5CE-4AC8-82D6-989818E4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057400" y="188640"/>
            <a:ext cx="68486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718B-CB3E-44D6-84E6-A8D64A28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1593720"/>
            <a:ext cx="38998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9400" y="1593720"/>
            <a:ext cx="38998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14040" y="4244760"/>
            <a:ext cx="38998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CABD-924B-487E-8CB3-48114DC3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040" y="1593720"/>
            <a:ext cx="799164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1593720"/>
            <a:ext cx="38998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09400" y="1593720"/>
            <a:ext cx="38998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09400" y="4244760"/>
            <a:ext cx="38998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2511-03B5-422F-8F27-CBA85077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1593720"/>
            <a:ext cx="38998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09400" y="1593720"/>
            <a:ext cx="38998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040" y="4244760"/>
            <a:ext cx="79916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BC0B-02F1-4EAA-81F8-FCCADC45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1593720"/>
            <a:ext cx="79916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14040" y="4244760"/>
            <a:ext cx="79916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32E5-6CFF-4CA4-A4DC-4859620D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1593720"/>
            <a:ext cx="38998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09400" y="1593720"/>
            <a:ext cx="38998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244760"/>
            <a:ext cx="38998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09400" y="4244760"/>
            <a:ext cx="38998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28ED-A0E1-4BA4-BA80-E616CEC8A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593720"/>
            <a:ext cx="257292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15840" y="1593720"/>
            <a:ext cx="257292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18000" y="1593720"/>
            <a:ext cx="257292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914040" y="4244760"/>
            <a:ext cx="257292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15840" y="4244760"/>
            <a:ext cx="257292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18000" y="4244760"/>
            <a:ext cx="257292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8CF2-ECB1-4B38-868D-C70B76FF0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040" y="1593720"/>
            <a:ext cx="79916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040" y="1593720"/>
            <a:ext cx="38998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09400" y="1593720"/>
            <a:ext cx="38998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057400" y="188640"/>
            <a:ext cx="68486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593720"/>
            <a:ext cx="38998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09400" y="1593720"/>
            <a:ext cx="38998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040" y="4244760"/>
            <a:ext cx="38998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593720"/>
            <a:ext cx="38998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9400" y="1593720"/>
            <a:ext cx="38998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09400" y="4244760"/>
            <a:ext cx="38998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1593720"/>
            <a:ext cx="38998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9400" y="1593720"/>
            <a:ext cx="38998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040" y="4244760"/>
            <a:ext cx="79916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1593720"/>
            <a:ext cx="79916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952520"/>
            <a:ext cx="86868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D554-B743-4AD6-AA9C-565C35A66497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952520"/>
            <a:ext cx="86868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The Canadian Labour Movement and Collective Bargaining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80" name="canada_labour_stamp" descr=""/>
          <p:cNvPicPr/>
          <p:nvPr/>
        </p:nvPicPr>
        <p:blipFill>
          <a:blip r:embed="rId2"/>
          <a:stretch/>
        </p:blipFill>
        <p:spPr>
          <a:xfrm>
            <a:off x="5867280" y="1752480"/>
            <a:ext cx="2157480" cy="2819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Collective Bargaining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343400" y="1593720"/>
            <a:ext cx="45626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Unions also have a variety of weapons at their disposal.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They might have a mass sick out, slow downs or have picket lines.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They might engage in a boycott of the manufacturers product and they also might engage in a publicity campaign.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Of course the last resort and strongest weapon for a union is the strike.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07" name="sunrise_strike_begins1_large" descr=""/>
          <p:cNvPicPr/>
          <p:nvPr/>
        </p:nvPicPr>
        <p:blipFill>
          <a:blip r:embed="rId2"/>
          <a:stretch/>
        </p:blipFill>
        <p:spPr>
          <a:xfrm>
            <a:off x="1222200" y="1593720"/>
            <a:ext cx="2584800" cy="5075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Collective Bargaining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919680" cy="41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Sometimes, in the event of a strike management hires replacement workers, know derisively as </a:t>
            </a:r>
            <a:r>
              <a:rPr b="0" i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scabs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Unions often respond with great venom to these workers who are threatening their jobs by making the strike less effective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10" name="40.PR-Manager" descr=""/>
          <p:cNvPicPr/>
          <p:nvPr/>
        </p:nvPicPr>
        <p:blipFill>
          <a:blip r:embed="rId2"/>
          <a:stretch/>
        </p:blipFill>
        <p:spPr>
          <a:xfrm>
            <a:off x="5181480" y="1752480"/>
            <a:ext cx="3218040" cy="465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Unions in Canada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3720"/>
            <a:ext cx="419112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most one of every three Canadian workers belongs to a union.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ording to Statistics Canada, roughly 3.6 million employees in the Canadian Workforce in 1998 were union members.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13" name="Strike-saveourjobsbg" descr=""/>
          <p:cNvPicPr/>
          <p:nvPr/>
        </p:nvPicPr>
        <p:blipFill>
          <a:blip r:embed="rId2"/>
          <a:stretch/>
        </p:blipFill>
        <p:spPr>
          <a:xfrm>
            <a:off x="5562720" y="1600200"/>
            <a:ext cx="3370320" cy="5095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Benefits of Unionization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86200" y="1593720"/>
            <a:ext cx="50198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of the reasons why people may choose to join unionized workplaces include: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ob security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oved wages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and other benefits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nsion plans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and safety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tronger voice through collective bargaining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right to vote on your contract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16" name="160X_cp_martin_060118" descr=""/>
          <p:cNvPicPr/>
          <p:nvPr/>
        </p:nvPicPr>
        <p:blipFill>
          <a:blip r:embed="rId2"/>
          <a:stretch/>
        </p:blipFill>
        <p:spPr>
          <a:xfrm>
            <a:off x="1143000" y="2057400"/>
            <a:ext cx="2523960" cy="3943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Drawbacks of Unionization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1148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drawbacks to unionization include: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iving the price of production up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o much power sharing between management and employees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d tape – e.g. difficult for management to fire a bad employee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litics and pettiness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19" name="px017035" descr=""/>
          <p:cNvPicPr/>
          <p:nvPr/>
        </p:nvPicPr>
        <p:blipFill>
          <a:blip r:embed="rId2"/>
          <a:stretch/>
        </p:blipFill>
        <p:spPr>
          <a:xfrm>
            <a:off x="4724280" y="2486160"/>
            <a:ext cx="4267440" cy="2793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History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495680" y="1447920"/>
            <a:ext cx="464832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In the early 1900’s, it was common for companies to employ young children, often in horrible conditions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80808"/>
                </a:solidFill>
                <a:uFillTx/>
                <a:latin typeface="Tahoma"/>
              </a:rPr>
              <a:t>Why hire children?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Pay children less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Children less likely to disobey the boss than adults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Children more nimble, able to get into small spaces, etc.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All these things allow the boss to make more money by spending less on the workforce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83" name="child_labor_big" descr=""/>
          <p:cNvPicPr/>
          <p:nvPr/>
        </p:nvPicPr>
        <p:blipFill>
          <a:blip r:embed="rId2"/>
          <a:srcRect l="21875" t="0" r="15626" b="0"/>
          <a:stretch/>
        </p:blipFill>
        <p:spPr>
          <a:xfrm>
            <a:off x="228600" y="2057400"/>
            <a:ext cx="4191120" cy="3960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History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630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ince the 1920's, the Canadian labour movement has fought for, and achieved, numerous </a:t>
            </a: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improvements in the workplace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mong these are: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n end to child labou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The 40-hour work week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The minimum wage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Health &amp; safety standard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Employment insuranc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Vacation pay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86" name="macon" descr=""/>
          <p:cNvPicPr/>
          <p:nvPr/>
        </p:nvPicPr>
        <p:blipFill>
          <a:blip r:embed="rId2"/>
          <a:stretch/>
        </p:blipFill>
        <p:spPr>
          <a:xfrm>
            <a:off x="5715000" y="3429000"/>
            <a:ext cx="3276720" cy="2311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Changes in the Canadian Worker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862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The typical worker in the 1950's was a white male working in logging, mining, farming, or manufacturing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They kept the same job often for 30 to 35 years.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The worker earned enough money to support himself and his family.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89" name="Labor" descr=""/>
          <p:cNvPicPr/>
          <p:nvPr/>
        </p:nvPicPr>
        <p:blipFill>
          <a:blip r:embed="rId2"/>
          <a:stretch/>
        </p:blipFill>
        <p:spPr>
          <a:xfrm>
            <a:off x="5332320" y="1600200"/>
            <a:ext cx="3197160" cy="5075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Profile of a Typical Worker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267080" y="1980720"/>
            <a:ext cx="46389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Profile of the typical worker</a:t>
            </a: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 has changed.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Variety of factors have led to a change in the typical worker profile, among them: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utomatio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Feminism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Globalizatio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Government policie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2" name="assembly%2520line" descr=""/>
          <p:cNvPicPr/>
          <p:nvPr/>
        </p:nvPicPr>
        <p:blipFill>
          <a:blip r:embed="rId2"/>
          <a:stretch/>
        </p:blipFill>
        <p:spPr>
          <a:xfrm>
            <a:off x="609480" y="251460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Profile of a Typical Worker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267080" y="1752120"/>
            <a:ext cx="4638960" cy="47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Today, workers are male and female, and often working in a 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service industry</a:t>
            </a: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The typical Canadian will change jobs five times in a lifetime.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Many jobs are part-time minimum wage jobs, sometimes called </a:t>
            </a:r>
            <a:r>
              <a:rPr b="1" lang="en-US" sz="2400" spc="-1" strike="noStrike">
                <a:solidFill>
                  <a:srgbClr val="080808"/>
                </a:solidFill>
                <a:latin typeface="Tahoma"/>
              </a:rPr>
              <a:t>“McJobs.”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Typically, these jobs do not have many benefits or union protection.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5" name="mcjob" descr=""/>
          <p:cNvPicPr/>
          <p:nvPr/>
        </p:nvPicPr>
        <p:blipFill>
          <a:blip r:embed="rId2"/>
          <a:stretch/>
        </p:blipFill>
        <p:spPr>
          <a:xfrm>
            <a:off x="914400" y="2400480"/>
            <a:ext cx="3048120" cy="3462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Collective Bargaining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5626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Collective bargaining consists of negotiations between an employer and a group of employees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The result of collective bargaining procedure is called the </a:t>
            </a:r>
            <a:r>
              <a:rPr b="1" i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collective bargaining agreement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 or </a:t>
            </a:r>
            <a:r>
              <a:rPr b="1" i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CBA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Often employees are represented in the bargaining by a union or other labour organization.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8" name="caw_bornunion" descr=""/>
          <p:cNvPicPr/>
          <p:nvPr/>
        </p:nvPicPr>
        <p:blipFill>
          <a:blip r:embed="rId2"/>
          <a:stretch/>
        </p:blipFill>
        <p:spPr>
          <a:xfrm>
            <a:off x="5791320" y="1981080"/>
            <a:ext cx="2514600" cy="4237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Collective Bargaining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343400" y="1593720"/>
            <a:ext cx="45626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Unions and management engage in negotiations in order to reach a CBA agreement (contract).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The law requires that both sides "bargain in good faith."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This means that they both must come to the table willing to give and take.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Often, though, each side feels a need to "push" the other side in order to get what they want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01" name="3um87s10" descr=""/>
          <p:cNvPicPr/>
          <p:nvPr/>
        </p:nvPicPr>
        <p:blipFill>
          <a:blip r:embed="rId2"/>
          <a:stretch/>
        </p:blipFill>
        <p:spPr>
          <a:xfrm>
            <a:off x="914400" y="2535120"/>
            <a:ext cx="3200400" cy="3192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57400" y="188640"/>
            <a:ext cx="684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Collective Bargaining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3720"/>
            <a:ext cx="39196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Management might, for example, engage in a publicity campaign against the union, temporarily laying off workers, or lock them out of the workplace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65d2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In the past management took certain actions which are</a:t>
            </a:r>
            <a:r>
              <a:rPr b="0" i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 now illegal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 including the hiring of armed thugs!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04" name="istockphoto_178748_lock_out" descr=""/>
          <p:cNvPicPr/>
          <p:nvPr/>
        </p:nvPicPr>
        <p:blipFill>
          <a:blip r:embed="rId2"/>
          <a:stretch/>
        </p:blipFill>
        <p:spPr>
          <a:xfrm>
            <a:off x="4986360" y="2825640"/>
            <a:ext cx="3919680" cy="2610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20:30:53Z</dcterms:created>
  <dc:creator>Angelo &amp; Kelly Tsarouhas</dc:creator>
  <dc:description/>
  <dc:language>en-US</dc:language>
  <cp:lastModifiedBy>HPEDSB</cp:lastModifiedBy>
  <dcterms:modified xsi:type="dcterms:W3CDTF">2007-03-21T14:26:37Z</dcterms:modified>
  <cp:revision>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221033</vt:lpwstr>
  </property>
</Properties>
</file>