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7991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4244760"/>
            <a:ext cx="7991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24476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09400" y="424476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15840" y="159372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18000" y="159372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424476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15840" y="424476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18000" y="424476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C27-2002-40EC-95FF-7A4711F4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1593720"/>
            <a:ext cx="7991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D2FE-39A4-4ECF-8155-A80B0B3D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7991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C1E-B5AD-4168-B4A7-6C26244F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3CD-FB3C-4E7F-A8C7-24A73030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071-1697-49F3-9B36-4E1AF791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057400" y="188640"/>
            <a:ext cx="68486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C26-4C89-403C-B80E-429D27EE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040" y="424476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51A-C98F-4D53-8F7C-651079FA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1593720"/>
            <a:ext cx="7991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09400" y="424476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EA9-907C-46D3-8785-81408EAB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244760"/>
            <a:ext cx="7991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34A-0208-4A7B-8D45-608ECBD0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7991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040" y="4244760"/>
            <a:ext cx="7991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690-A3AA-46D0-ABE9-1E90D37D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24476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09400" y="424476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9ED-03FE-4470-8812-87FA551A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15840" y="159372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18000" y="159372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040" y="424476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15840" y="424476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18000" y="424476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95F-DFF6-4B9F-993A-7C9D3A4C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7991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057400" y="188640"/>
            <a:ext cx="68486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424476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09400" y="424476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244760"/>
            <a:ext cx="7991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593720"/>
            <a:ext cx="7991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F3F1-651D-4045-8A2E-B4509C1C97AA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86868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The Canadian Labour Movement and Collective Bargaining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0" name="canada_labour_stamp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215748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ollective Bargaining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43400" y="1593720"/>
            <a:ext cx="4562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Unions also have a variety of weapons at their disposal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hey might have a mass sick out, slow downs or have picket lines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hey might engage in a boycott of the manufacturers product and they also might engage in a publicity campaign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Of course the last resort and strongest weapon for a union is the strike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7" name="sunrise_strike_begins1_large" descr=""/>
          <p:cNvPicPr/>
          <p:nvPr/>
        </p:nvPicPr>
        <p:blipFill>
          <a:blip r:embed="rId2"/>
          <a:stretch/>
        </p:blipFill>
        <p:spPr>
          <a:xfrm>
            <a:off x="1222200" y="1593720"/>
            <a:ext cx="2584800" cy="507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ollective Bargaining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91968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Sometimes, in the event of a strike management hires replacement workers, know derisively as </a:t>
            </a:r>
            <a:r>
              <a:rPr b="0" i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scabs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Unions often respond with great venom to these workers who are threatening their jobs by making the strike less effective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0" name="40.PR-Manager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218040" cy="465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Unions in Canada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3720"/>
            <a:ext cx="419112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most one of every three Canadian workers belongs to a union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ording to Statistics Canada, roughly 3.6 million employees in the Canadian Workforce in 1998 were union members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3" name="Strike-saveourjobsbg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3370320" cy="509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Benefits of Unionization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86200" y="1593720"/>
            <a:ext cx="50198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of the reasons why people may choose to join unionized workplaces include: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b security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wages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and other benefits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sion plan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and safety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tronger voice through collective bargaining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ight to vote on your contract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6" name="160X_cp_martin_060118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2523960" cy="3943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Drawbacks of Unionization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114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drawbacks to unionization include: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iving the price of production up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o much power sharing between management and employee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 tape – e.g. difficult for management to fire a bad employe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tics and pettines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9" name="px017035" descr=""/>
          <p:cNvPicPr/>
          <p:nvPr/>
        </p:nvPicPr>
        <p:blipFill>
          <a:blip r:embed="rId2"/>
          <a:stretch/>
        </p:blipFill>
        <p:spPr>
          <a:xfrm>
            <a:off x="4724280" y="2486160"/>
            <a:ext cx="4267440" cy="2793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History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495680" y="1447920"/>
            <a:ext cx="464832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In the early 1900’s, it was common for companies to employ young children, often in horrible conditions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80808"/>
                </a:solidFill>
                <a:uFillTx/>
                <a:latin typeface="Tahoma"/>
              </a:rPr>
              <a:t>Why hire children?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Pay children less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hildren less likely to disobey the boss than adults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hildren more nimble, able to get into small spaces, etc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All these things allow the boss to make more money by spending less on the workforc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3" name="child_labor_big" descr=""/>
          <p:cNvPicPr/>
          <p:nvPr/>
        </p:nvPicPr>
        <p:blipFill>
          <a:blip r:embed="rId2"/>
          <a:srcRect l="21875" t="0" r="15626" b="0"/>
          <a:stretch/>
        </p:blipFill>
        <p:spPr>
          <a:xfrm>
            <a:off x="228600" y="2057400"/>
            <a:ext cx="4191120" cy="396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History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630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ince the 1920's, the Canadian labour movement has fought for, and achieved, numerous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mprovements in the workplace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mong these are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n end to child labou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40-hour work week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minimum wage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ealth &amp; safety standard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mployment insuranc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Vacation pa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6" name="macon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3276720" cy="2311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hanges in the Canadian Worker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862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e typical worker in the 1950's was a white male working in logging, mining, farming, or manufacturing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ey kept the same job often for 30 to 35 years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e worker earned enough money to support himself and his family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9" name="Labor" descr=""/>
          <p:cNvPicPr/>
          <p:nvPr/>
        </p:nvPicPr>
        <p:blipFill>
          <a:blip r:embed="rId2"/>
          <a:stretch/>
        </p:blipFill>
        <p:spPr>
          <a:xfrm>
            <a:off x="5332320" y="1600200"/>
            <a:ext cx="3197160" cy="507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Profile of a Typical Worker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67080" y="1980720"/>
            <a:ext cx="46389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Profile of the typical worker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 has changed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Variety of factors have led to a change in the typical worker profile, among them: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utoma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eminism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Globaliza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Government polici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2" name="assembly%2520line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Profile of a Typical Worker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67080" y="1752120"/>
            <a:ext cx="463896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oday, workers are male and female, and often working in a 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service industry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e typical Canadian will change jobs five times in a lifetime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any jobs are part-time minimum wage jobs, sometimes called 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“McJobs.”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ypically, these jobs do not have many benefits or union protection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5" name="mcjob" descr=""/>
          <p:cNvPicPr/>
          <p:nvPr/>
        </p:nvPicPr>
        <p:blipFill>
          <a:blip r:embed="rId2"/>
          <a:stretch/>
        </p:blipFill>
        <p:spPr>
          <a:xfrm>
            <a:off x="914400" y="2400480"/>
            <a:ext cx="3048120" cy="34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ollective Bargaining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562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Collective bargaining consists of negotiations between an employer and a group of employees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he result of collective bargaining procedure is called the </a:t>
            </a:r>
            <a:r>
              <a:rPr b="1" i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collective bargaining agreement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 or </a:t>
            </a:r>
            <a:r>
              <a:rPr b="1" i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CBA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Often employees are represented in the bargaining by a union or other labour organization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8" name="caw_bornunion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2514600" cy="423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ollective Bargaining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43400" y="1593720"/>
            <a:ext cx="4562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Unions and management engage in negotiations in order to reach a CBA agreement (contract)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he law requires that both sides "bargain in good faith."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his means that they both must come to the table willing to give and take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Often, though, each side feels a need to "push" the other side in order to get what they want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1" name="3um87s10" descr=""/>
          <p:cNvPicPr/>
          <p:nvPr/>
        </p:nvPicPr>
        <p:blipFill>
          <a:blip r:embed="rId2"/>
          <a:stretch/>
        </p:blipFill>
        <p:spPr>
          <a:xfrm>
            <a:off x="914400" y="2535120"/>
            <a:ext cx="3200400" cy="319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ollective Bargaining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3720"/>
            <a:ext cx="39196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Management might, for example, engage in a publicity campaign against the union, temporarily laying off workers, or lock them out of the workplace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In the past management took certain actions which are</a:t>
            </a:r>
            <a:r>
              <a:rPr b="0" i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 now illegal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 including the hiring of armed thugs!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4" name="istockphoto_178748_lock_out" descr=""/>
          <p:cNvPicPr/>
          <p:nvPr/>
        </p:nvPicPr>
        <p:blipFill>
          <a:blip r:embed="rId2"/>
          <a:stretch/>
        </p:blipFill>
        <p:spPr>
          <a:xfrm>
            <a:off x="4986360" y="2825640"/>
            <a:ext cx="3919680" cy="261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20:30:53Z</dcterms:created>
  <dc:creator>Angelo &amp; Kelly Tsarouhas</dc:creator>
  <dc:description/>
  <dc:language>en-US</dc:language>
  <cp:lastModifiedBy>HPEDSB</cp:lastModifiedBy>
  <dcterms:modified xsi:type="dcterms:W3CDTF">2007-03-21T14:26:37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21033</vt:lpwstr>
  </property>
</Properties>
</file>