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D1D7-C088-4D99-9738-FDD37145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F76-122C-4BF3-934F-21B90C51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946-0D93-4468-AB32-8C52A82C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D91-C7F5-4873-A11A-7C0D866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A0C-F37E-44FF-8D42-317ECB9E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787-B134-4419-9C46-36E3985C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EF2-D2B7-43C7-BAE5-0677CDF8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2C7-D2E9-4D8C-87ED-06548BE6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864-2AF0-417B-9607-1CFCF818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2CB-DE6F-421B-8AF5-ED56D48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DE-D102-4478-B347-10A99CA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CE4-E134-4359-A066-6A9798E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6B1-6E9B-449D-862D-33A55DA4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CF3-F1E1-4ED2-9BFE-8329275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FBE3-03F6-46B9-BD14-3ECEC7C75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" Target="slide28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workforce diversity’ pertai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in gender, race, age, ethnicity, disabilities, religion and sexual orien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-Ex, Conrad Black, Martha Stewart and Enron have all been involved in corporate 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one who is in charge of the “Run For The Cure” for Nabisco is called a ___________ mana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‘old premise’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s made the ultimate decis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‘new premise’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eam-oriented decision-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‘resource inputs’ that Kraft Foods might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, money, materials, tech. o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of the perks we learned of at Goo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, cafeteria, hair cut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four functions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, planning, organizing and 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 specific example of contr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 specific example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280"/>
            <a:ext cx="1295280" cy="91440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00400" y="152280"/>
            <a:ext cx="1295280" cy="9144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648320" y="152280"/>
            <a:ext cx="1295280" cy="91440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095880" y="152280"/>
            <a:ext cx="1295640" cy="914400"/>
          </a:xfrm>
          <a:prstGeom prst="rect">
            <a:avLst/>
          </a:prstGeom>
          <a:solidFill>
            <a:srgbClr val="ff6600">
              <a:alpha val="94000"/>
            </a:srgbClr>
          </a:solidFill>
          <a:ln w="0">
            <a:noFill/>
          </a:ln>
          <a:effectLst>
            <a:outerShdw dist="153753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543800" y="152280"/>
            <a:ext cx="1295280" cy="914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04920" y="1219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04920" y="2362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304920" y="3505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4920" y="4648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04920" y="5791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752480" y="1219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752480" y="2362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752480" y="3505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752480" y="4648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752480" y="5791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3200400" y="1219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3200400" y="2362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3200400" y="3505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3200400" y="4648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200400" y="5791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648320" y="1219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648320" y="2362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648320" y="3505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648320" y="4648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648320" y="5791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6095880" y="1219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6095880" y="2362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6095880" y="3505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6095880" y="4648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6095880" y="5791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543800" y="1219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7543800" y="2362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7543800" y="3505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7543800" y="4648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7543800" y="5791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n example of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n example of 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hree managerial roles?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ersonal, informational and dec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disturbance handler’ refer to? Give an examp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glass ceil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barriers that women or minorities cannot push through to pro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use case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decision mak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implementation’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muneration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ree of the six factors that contribute to the new workplace? (first day we m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capital, globalization, tech. diversity, ethics, car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a role of a ‘top manager’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, guide performance of middle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main idea of the article we discussed in clas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 employees to do what they are goo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command and control’ refer t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sy b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perks of life at Goog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marks deducted in this class if an assignment is l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- you receive a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 we read our books in clas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mmnn,.question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67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diagram called that shows the levels of employ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a manager in a non-profit organ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JEOPARDY - Who said “I skate to where the puck is going to be, not to where it has bee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ve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ne of the world’s largest economies in 200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, Japan or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ne of the World’s largest economies (forecasted) in 20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, U.S. or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4:14:39Z</dcterms:created>
  <dc:creator> </dc:creator>
  <dc:description/>
  <dc:language>en-US</dc:language>
  <cp:lastModifiedBy>Osier, Michelle</cp:lastModifiedBy>
  <dcterms:modified xsi:type="dcterms:W3CDTF">2013-09-16T19:58:06Z</dcterms:modified>
  <cp:revision>26</cp:revision>
  <dc:subject/>
  <dc:title>Jeopardy</dc:title>
</cp:coreProperties>
</file>