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E67B-132F-440F-B721-B82B80E0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CDC9-5A7D-4F90-A443-F5B6765C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EC0-33ED-47A4-8BB1-8C76E00B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8FF-7FB0-4D18-8B0D-63484D65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96B-F503-46C0-9894-64E03C1F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547-DE0E-47A7-A8F4-A1EB58B5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3FB-51EA-41EA-9AD5-52F06046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2BA-418C-467E-9E83-33A116DF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BC0-B80C-4AC0-857D-49A52336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007-9C7D-418E-A94D-7CBDBF7E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5E1-6B6D-4E6C-8139-DF82DD3F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185C-8890-4C44-A7CD-335C1A1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CFB-380D-4BE7-839A-B2A3288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308-F776-478C-8879-0233457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5ED0-0B94-4B4C-9438-ED7B9911A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" Target="slide22.xml"/><Relationship Id="rId19" Type="http://schemas.openxmlformats.org/officeDocument/2006/relationships/slide" Target="slide23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6.xml"/><Relationship Id="rId23" Type="http://schemas.openxmlformats.org/officeDocument/2006/relationships/slide" Target="slide27.xml"/><Relationship Id="rId24" Type="http://schemas.openxmlformats.org/officeDocument/2006/relationships/slide" Target="slide28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31.xml"/><Relationship Id="rId28" Type="http://schemas.openxmlformats.org/officeDocument/2006/relationships/slide" Target="slide32.xml"/><Relationship Id="rId29" Type="http://schemas.openxmlformats.org/officeDocument/2006/relationships/slide" Target="slide33.xml"/><Relationship Id="rId30" Type="http://schemas.openxmlformats.org/officeDocument/2006/relationships/slide" Target="slide34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‘workforce diversity’ pertain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in gender, race, age, ethnicity, disabilities, religion and sexual orient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-Ex, Conrad Black, Martha Stewart and Enron have all been involved in corporate 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one who is in charge of the “Run For The Cure” for Nabisco is called a ___________ manag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‘old premise’ of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ss made the ultimate decis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‘new premise’ of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eam-oriented decision-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‘resource inputs’ that Kraft Foods might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, money, materials, tech. o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of the perks we learned of at Goo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m, cafeteria, hair cut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four functions of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ing, planning, organizing and 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a specific example of contro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a specific example of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152280"/>
            <a:ext cx="1295280" cy="91440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00400" y="152280"/>
            <a:ext cx="1295280" cy="9144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648320" y="152280"/>
            <a:ext cx="1295280" cy="91440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095880" y="152280"/>
            <a:ext cx="1295640" cy="914400"/>
          </a:xfrm>
          <a:prstGeom prst="rect">
            <a:avLst/>
          </a:prstGeom>
          <a:solidFill>
            <a:srgbClr val="ff6600">
              <a:alpha val="94000"/>
            </a:srgbClr>
          </a:solidFill>
          <a:ln w="0">
            <a:noFill/>
          </a:ln>
          <a:effectLst>
            <a:outerShdw dist="153753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ar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543800" y="152280"/>
            <a:ext cx="1295280" cy="91440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04920" y="1219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04920" y="2362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304920" y="3505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04920" y="4648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304920" y="5791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1752480" y="1219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1752480" y="2362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1752480" y="3505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1752480" y="4648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5"/>
          <p:cNvSpPr/>
          <p:nvPr/>
        </p:nvSpPr>
        <p:spPr>
          <a:xfrm>
            <a:off x="1752480" y="5791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3200400" y="1219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3200400" y="2362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3200400" y="3505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3200400" y="4648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3200400" y="5791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4648320" y="1219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4648320" y="2362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4648320" y="3505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4648320" y="4648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4648320" y="5791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6095880" y="1219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6095880" y="2362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6095880" y="3505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6095880" y="4648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0"/>
          <p:cNvSpPr/>
          <p:nvPr/>
        </p:nvSpPr>
        <p:spPr>
          <a:xfrm>
            <a:off x="6095880" y="5791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1"/>
          <p:cNvSpPr/>
          <p:nvPr/>
        </p:nvSpPr>
        <p:spPr>
          <a:xfrm>
            <a:off x="7543800" y="1219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7543800" y="2362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7543800" y="3505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4"/>
          <p:cNvSpPr/>
          <p:nvPr/>
        </p:nvSpPr>
        <p:spPr>
          <a:xfrm>
            <a:off x="7543800" y="4648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7543800" y="5791320"/>
            <a:ext cx="1219320" cy="7617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an example of organi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ve an example of l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hree managerial roles? Give an example of each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ersonal, informational and dec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‘disturbance handler’ refer to? Give an examp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glass ceil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sible barriers that women or minorities cannot push through to pro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use case stu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life decision mak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‘implementation’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remuneration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ree of the six factors that contribute to the new workplace? (first day we m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ectual capital, globalization, tech. diversity, ethics, care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a role of a ‘top manager’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y, guide performance of middle mana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main idea of the article we discussed in clas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 employees to do what they are good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‘command and control’ refer t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sy bo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ome perks of life at Googl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marks deducted in this class if an assignment is l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- you receive a z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 we read our books in clas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6969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5a5a5a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mmnn,.question of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>
            <a:hlinkClick r:id="rId1" action="ppaction://hlinksldjump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667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diagram called that shows the levels of employ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name of a manager in a non-profit organ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>
            <a:hlinkClick r:id="rId1" action="ppaction://hlinksldjump"/>
          </p:cNvPr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JEOPARDY - Who said “I skate to where the puck is going to be, not to where it has been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ve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one of the world’s largest economies in 200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.S., Japan or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one of the World’s largest economies (forecasted) in 205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, U.S. or In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4:14:39Z</dcterms:created>
  <dc:creator> </dc:creator>
  <dc:description/>
  <dc:language>en-US</dc:language>
  <cp:lastModifiedBy>Osier, Michelle</cp:lastModifiedBy>
  <dcterms:modified xsi:type="dcterms:W3CDTF">2013-09-16T19:58:06Z</dcterms:modified>
  <cp:revision>26</cp:revision>
  <dc:subject/>
  <dc:title>Jeopardy</dc:title>
</cp:coreProperties>
</file>