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ED4-2F83-4F0A-9A3C-5D453BB0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0ED-76E6-4E9D-9241-83198EBF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87A-473E-4DE2-8B07-8FCCF3D1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A03-F272-4619-8A58-96A113E1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DC4-FFC2-4A7E-A73C-7783F470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452-5B05-4843-BF45-52FDFC64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FC2-678A-4B87-A1EC-D4C5083C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D0C-1330-425D-B841-4506DFF9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DDF-CB6B-4515-8481-AA64CBDA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9EB-8823-41A9-AC69-B5D4A56F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2D6-C940-44AD-B0B3-4BE5E18B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484-033A-46B4-BCB0-13846729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D679-D539-43B7-B83E-3EF886EC9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factors contributed to improved productivity during the Relay Assembly Room Tests. What we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norms (they liked each oth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tion supervision (workers were asked for opin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the difference between a theory x and y manag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we use mathematical approaches to solve a problem, what type of management are we us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at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wo principles developed by A. Maslow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cit Principle, progression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ystems thinki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s need to change, respond to individual differences &amp; orgs are interrel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ntory modelling or forecasting would best fit under which management school of thou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titativ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interesting research that happened before and during the Great Depres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 can increase or decrease i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rederick Taylor’s nick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her of Scientific Mg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a reward given to an employee that would fit the ‘social needs’ category. Don’t say ONLINE DATING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ff66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a reward for a CEO at the Self-actualization le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04920" y="152280"/>
            <a:ext cx="1295280" cy="91440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200400" y="152280"/>
            <a:ext cx="1295280" cy="9144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99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648320" y="152280"/>
            <a:ext cx="1295280" cy="914400"/>
          </a:xfrm>
          <a:prstGeom prst="rect">
            <a:avLst/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095880" y="152280"/>
            <a:ext cx="1295640" cy="914400"/>
          </a:xfrm>
          <a:prstGeom prst="rect">
            <a:avLst/>
          </a:prstGeom>
          <a:solidFill>
            <a:srgbClr val="ff6600">
              <a:alpha val="94000"/>
            </a:srgbClr>
          </a:solidFill>
          <a:ln w="0">
            <a:noFill/>
          </a:ln>
          <a:effectLst>
            <a:outerShdw dist="153753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04920" y="1219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04920" y="2362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304920" y="3505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304920" y="4648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5791320"/>
            <a:ext cx="1218960" cy="761760"/>
          </a:xfrm>
          <a:prstGeom prst="rect">
            <a:avLst/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1752480" y="1219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1752480" y="2362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1752480" y="3505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1752480" y="4648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1752480" y="5791320"/>
            <a:ext cx="121932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3200400" y="1219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3200400" y="2362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3200400" y="3505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3200400" y="4648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4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3200400" y="5791320"/>
            <a:ext cx="1219320" cy="7617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4648320" y="1219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4648320" y="2362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4648320" y="3505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4648320" y="4648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4648320" y="5791320"/>
            <a:ext cx="1218960" cy="76176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7819" dir="2700000" blurRad="0" rotWithShape="0">
              <a:srgbClr val="7a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6095880" y="1219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hlinkClick r:id="rId21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6095880" y="2362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6095880" y="3505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6095880" y="4648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6095880" y="5791320"/>
            <a:ext cx="1219320" cy="761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watched a video on Henry Ford. What is one interesting thing you reme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point of a case stud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managerial decision making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day do we usually read our book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JEOPARDY –Martha Stewart did an illegal trade for which pharma compa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solidFill>
            <a:srgbClr val="33cc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1f7a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c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earliest evidence of management you can think o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Henri Fayol come up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duties of mg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scalar chain principle refer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know the lines of authority and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progression principle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t go in order of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me about ONE current event that you know o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ff9933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995c1f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v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Henry Ford revolutionize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mbly line, better pay, division of lab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four types of management ‘thought’ organiz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cal, Behavioural, Quantitative and Mod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major difference between the classical approach and the behavioural approa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ers attitudes/psyche played a major role in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 of a teacher who displays MPF’s theories and explain wh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di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Max Weber’s theory. Does it have a positive or negative connotation n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9966ff"/>
          </a:solidFill>
          <a:ln w="0">
            <a:noFill/>
          </a:ln>
          <a:effectLst>
            <a:outerShdw dist="153753" dir="2700000" blurRad="0" rotWithShape="0">
              <a:srgbClr val="5c3d99"/>
            </a:outerShdw>
          </a:effectLst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eaucracy, neg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819000"/>
            <a:ext cx="8229600" cy="5212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I put an announcement in for xcountry congratulating Joe Speedy on being first place at a meet and then he performs better next race because he feels like a million bucks, what is the theory display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848720" y="6248520"/>
            <a:ext cx="10666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solidFill>
            <a:srgbClr val="6699ff">
              <a:alpha val="97000"/>
            </a:srgbClr>
          </a:soli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txBody>
          <a:bodyPr anchor="ctr">
            <a:norm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wthorne Effec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5T14:14:39Z</dcterms:created>
  <dc:creator> </dc:creator>
  <dc:description/>
  <dc:language>en-US</dc:language>
  <cp:lastModifiedBy>Osier, Michelle</cp:lastModifiedBy>
  <dcterms:modified xsi:type="dcterms:W3CDTF">2013-10-01T12:27:34Z</dcterms:modified>
  <cp:revision>30</cp:revision>
  <dc:subject/>
  <dc:title>Jeopardy</dc:title>
</cp:coreProperties>
</file>