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37B-DEF5-4A4C-B686-07F13C86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BB0-8A6C-4CE8-BC76-5AF3420D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278-DD56-437C-B180-77DA2D94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6DC-810C-41E1-80F4-9B041047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049F-6CF1-452F-A605-140FFEBF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63F1-DA0B-4D90-A1A5-C5ABF7CC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E102-C12F-4B0E-9C03-416BC137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517F-3116-47E5-8CB9-99CF68D5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2250-BC31-42A8-B6D5-4D34B349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0C53-EDB7-4D30-B02D-250FAF3A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3EA1-7BC1-490D-A04B-46559F3C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838-358D-403A-88BF-D3F56CBF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7CDC-CA3C-4049-A227-3FA076DC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429-30B2-4DDD-85A3-F58F614F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0C6B-2495-44A1-B788-CB3BE9D6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3BAC-3416-4538-BA5D-97DE51D8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C9D1-5C22-4A73-9243-5192B92ED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F77-53BE-42DA-9B59-F068AC53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D28-0A63-4E5D-94A7-8162205F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E53-D47A-4588-A85D-2769797D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A5C-12AC-44C4-B7F6-34D88C2A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B7A-CA48-45CA-8F22-1712A18D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F98-844F-4CB7-BBBD-E920C0C7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D37-EF28-49CD-ABD7-CAB77F75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B9A7-7F3E-4F96-902D-60DA4E2E86BD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308D-F0F8-45E9-AAD2-1867AA2861C5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Kimberly Process-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ing The Issue of Conflict Free Diamon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diamonds are small and easy to transport, it is difficult to track all diamonds leaving a given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s from conflict regions are often mixed with legitimate diamonds and certified as conflict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perts claim that due to smuggling and mixing diamonds it’s almost impossible to know if the diamond indeed came from a conflict 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twerp: The Diamond Capit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diamonds are smuggled out of a conflict region, they inevitably end up in Antwerp, Belgium, the diamond capital of the wor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ly, half the world’s rough diamonds, an average of $29 billion dollars worth, pass through Antwerp. Other trading centers include New York, Tel Aviv, and Bomb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ng experts then categorize and assign value to the diamonds before sending them to cutting and polishing centers to be prepared for res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ExaminingDiamondasitisFaceted"/>
          <p:cNvPicPr/>
          <p:nvPr/>
        </p:nvPicPr>
        <p:blipFill>
          <a:blip r:embed="rId1"/>
          <a:stretch/>
        </p:blipFill>
        <p:spPr>
          <a:xfrm>
            <a:off x="4724280" y="1828800"/>
            <a:ext cx="3981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American Love Affair With Diamon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e diamonds have been cut and polished, they are sent to manufacturers who craft them into jewel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nited States is the largest market for diamond jewelry, buying up nearly half of the $56 billion in diamonds sold last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all diamonds in the United States pass through the Diamond District in Manhattan before being sold to other retail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wedding.jpg"/>
          <p:cNvPicPr/>
          <p:nvPr/>
        </p:nvPicPr>
        <p:blipFill>
          <a:blip r:embed="rId1"/>
          <a:stretch/>
        </p:blipFill>
        <p:spPr>
          <a:xfrm>
            <a:off x="990720" y="1981080"/>
            <a:ext cx="30477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national Initiative: The Kimberley Proc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3, the Kimberley Process Certification Scheme, a joint initiative developed by governments, the international diamond industry, and civil society, was introduced to help stem the flow of conflict diam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imberley Process is a voluntary initiative that requires participants to certify that shipments of rough diamonds are conflict fr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mond industry also voluntarily agreed to implement a System of Warranties, designed to help trace rough diamonds from mining to point of s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599840"/>
            <a:ext cx="40384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5"/>
          <p:cNvGraphicFramePr/>
          <p:nvPr/>
        </p:nvGraphicFramePr>
        <p:xfrm>
          <a:off x="4724280" y="1905120"/>
          <a:ext cx="39625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05120"/>
                    <a:ext cx="39625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Perfect Solutio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Kimberley Process has not solved the problem of conflict diamonds, it has reduced the amount of conflict diamonds sold into the open mar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, violence funded by conflict diamonds is escalating in Cote D’Ivoire, proving there are serious loopholes in the Kimberley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s to strengthen the Kimberley Process include increasing government oversight of the diamond industry and strengthening government enforcement poli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3:35:43Z</dcterms:created>
  <dc:creator>HREintern</dc:creator>
  <dc:description/>
  <dc:language>en-US</dc:language>
  <cp:lastModifiedBy>Osier, Michelle</cp:lastModifiedBy>
  <dcterms:modified xsi:type="dcterms:W3CDTF">2013-11-07T16:09:57Z</dcterms:modified>
  <cp:revision>20</cp:revision>
  <dc:subject/>
  <dc:title>From Military Engagements to Engagement Rings</dc:title>
</cp:coreProperties>
</file>