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357-DD00-485B-BB24-C20E0B40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2B0-AB0B-4FD5-80C7-C70B8D6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E2B-ECAA-4FF0-BF9E-095DB507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23C-4A30-46BC-94F2-FA241EB3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124-BB96-49AE-8824-CEC13232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9681-47B0-47EC-B035-1243392C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2987-441B-4054-8AF3-7B90E017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5A97-EB5A-44E8-A28F-00955CC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1813-8428-42E7-9251-027B37F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531-0350-451F-BE41-6957A42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D936-4B34-48BA-BF82-8D8B27E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62D-E18A-4DF2-9BE3-7B1E4EB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FF8-1C00-4B50-BC8F-C01AA80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24D8-E45A-4EDE-85B4-FE699BB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508-71E2-4693-B1D0-7E1443C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2D36-7290-4126-A169-19E21FAB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260B-5DED-4AB1-A928-750FDCA5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6E1-E5F4-43AD-89B6-4ED877C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C5B-635B-4257-9BCF-8B34CE48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300-DBF5-46F8-A156-8F97529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0B1-F159-41E1-B1CF-860EF6D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B3D-B830-4F2B-99A3-049A1BB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35F-E9AC-46BB-B9E3-D4298A5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19F-A83C-4BC1-8890-3DB9CD7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EDE-9AD0-4A8C-BE16-2B400C878AB6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F8EA-A7B4-4157-A397-48BF22DE2D05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Kimberly Process-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ing The Issue of Conflict Free Diamo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diamonds are small and easy to transport, it is difficult to track all diamonds leaving a given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 from conflict regions are often mixed with legitimate diamonds and certified as conflict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perts claim that due to smuggling and mixing diamonds it’s almost impossible to know if the diamond indeed came from a conflict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twerp: The Diamond Capit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diamonds are smuggled out of a conflict region, they inevitably end up in Antwerp, Belgium, the diamond capital of the wor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ly, half the world’s rough diamonds, an average of $29 billion dollars worth, pass through Antwerp. Other trading centers include New York, Tel Aviv, and Bomb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ng experts then categorize and assign value to the diamonds before sending them to cutting and polishing centers to be prepared for res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ExaminingDiamondasitisFaceted"/>
          <p:cNvPicPr/>
          <p:nvPr/>
        </p:nvPicPr>
        <p:blipFill>
          <a:blip r:embed="rId1"/>
          <a:stretch/>
        </p:blipFill>
        <p:spPr>
          <a:xfrm>
            <a:off x="4724280" y="1828800"/>
            <a:ext cx="3981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American Love Affair With Diamo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e diamonds have been cut and polished, they are sent to manufacturers who craft them into jewel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nited States is the largest market for diamond jewelry, buying up nearly half of the $56 billion in diamonds sold last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iamonds in the United States pass through the Diamond District in Manhattan before being sold to other retai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wedding.jpg"/>
          <p:cNvPicPr/>
          <p:nvPr/>
        </p:nvPicPr>
        <p:blipFill>
          <a:blip r:embed="rId1"/>
          <a:stretch/>
        </p:blipFill>
        <p:spPr>
          <a:xfrm>
            <a:off x="990720" y="1981080"/>
            <a:ext cx="3047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national Initiative: The Kimberley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3, the Kimberley Process Certification Scheme, a joint initiative developed by governments, the international diamond industry, and civil society, was introduced to help stem the flow of conflict diam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mberley Process is a voluntary initiative that requires participants to certify that shipments of rough diamonds are conflict f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mond industry also voluntarily agreed to implement a System of Warranties, designed to help trace rough diamonds from mining to point of s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599840"/>
            <a:ext cx="40384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4724280" y="1905120"/>
          <a:ext cx="39625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3962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erfect Solutio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Kimberley Process has not solved the problem of conflict diamonds, it has reduced the amount of conflict diamonds sold into the open mar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violence funded by conflict diamonds is escalating in Cote D’Ivoire, proving there are serious loopholes in the Kimberley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to strengthen the Kimberley Process include increasing government oversight of the diamond industry and strengthening government enforcement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3:35:43Z</dcterms:created>
  <dc:creator>HREintern</dc:creator>
  <dc:description/>
  <dc:language>en-US</dc:language>
  <cp:lastModifiedBy>Osier, Michelle</cp:lastModifiedBy>
  <dcterms:modified xsi:type="dcterms:W3CDTF">2013-11-07T16:09:57Z</dcterms:modified>
  <cp:revision>20</cp:revision>
  <dc:subject/>
  <dc:title>From Military Engagements to Engagement Rings</dc:title>
</cp:coreProperties>
</file>