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EAD-9139-465F-BB1A-C90AE619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8C6-ABE1-4127-997B-F0304461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672-6510-44CF-AE54-6111F2C4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989-F463-44ED-B4D2-A267B2E7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65F-2222-448B-B97E-8B0814B9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C41-1F40-4287-9912-C18B5CF9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32A-B2C3-4465-8323-5008C299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CE5-690C-43BD-A12F-504E4229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FCD-8659-4330-B1F2-7B4DC4F4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5C5-5983-44D6-BDDC-B43A60FD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79C-1777-4AE4-B588-621DD26F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688-47D2-4E96-94E3-253227A9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796B-E7F4-4084-9799-72A328B6E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33560" y="874800"/>
            <a:ext cx="7075440" cy="598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63640" y="260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2602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Structure Example – Treasury Board of Can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07800"/>
            <a:ext cx="9144000" cy="655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2602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Structure Example – City of Richm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63640" y="260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602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Structure Example – Emlack Real E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14520" y="620640"/>
            <a:ext cx="61135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4200" y="47628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1:23:03Z</dcterms:created>
  <dc:creator>Angelo &amp; Kelly Tsarouhas</dc:creator>
  <dc:description/>
  <dc:language>en-US</dc:language>
  <cp:lastModifiedBy>Angelo &amp; Kelly Tsarouhas</cp:lastModifiedBy>
  <dcterms:modified xsi:type="dcterms:W3CDTF">2006-03-01T01:38:27Z</dcterms:modified>
  <cp:revision>2</cp:revision>
  <dc:subject/>
  <dc:title>Slide 1</dc:title>
</cp:coreProperties>
</file>