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6B3-6014-4203-A268-3CFF0C6B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634-D485-4B00-BE3A-3B5CEEF3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57F-19FD-42E8-9A9D-5AEE2E5F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DFC-E498-408D-AA41-A39E0B26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8B8-AB47-4CA2-BAD1-185BA727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579E-6F81-4DFC-8A70-24FCAF0B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22F-8D9A-42FF-9B16-6ADFC6A7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428-CF56-4545-BF91-8B947C12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CA8-69A1-4B8D-8D69-1ED1DE2D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503C-00C0-4025-9800-67D2C800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F53-6798-46C1-A0F8-62E4AE9F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FCE-86F0-44F4-9381-20FB91A1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12EA-F700-4E6B-9DD0-348B633DD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33560" y="874800"/>
            <a:ext cx="7075440" cy="598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63640" y="260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260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Structure Example – Treasury Board of Can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07800"/>
            <a:ext cx="9144000" cy="655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260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Structure Example – City of Richmo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63640" y="26028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60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al Structure Example – Emlack Real E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14520" y="620640"/>
            <a:ext cx="61135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4200" y="47628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1:23:03Z</dcterms:created>
  <dc:creator>Angelo &amp; Kelly Tsarouhas</dc:creator>
  <dc:description/>
  <dc:language>en-US</dc:language>
  <cp:lastModifiedBy>Angelo &amp; Kelly Tsarouhas</cp:lastModifiedBy>
  <dcterms:modified xsi:type="dcterms:W3CDTF">2006-03-01T01:38:27Z</dcterms:modified>
  <cp:revision>2</cp:revision>
  <dc:subject/>
  <dc:title>Slide 1</dc:title>
</cp:coreProperties>
</file>