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643B-8E43-410B-B301-C4120C03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E88-BDBD-45CB-98A5-16EF1CF7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EAD0-7E27-4BEA-A803-FAE5978E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8BEF-F4C0-4BD1-88CD-16F87497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D9CC-4073-4B27-B25B-013FFFFC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B2E5-F693-45D1-B200-DA226907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2B70-03EA-4EFE-B9C9-87622646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7DCD-6C38-40B5-BE9E-F4A08BEA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028E-645A-4B70-8979-FA96E6A4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21BE-75C5-463F-86F7-0D554952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7941-A038-40F2-AD03-41F088F0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E037-3815-493D-86A0-66F7728A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BDFA-048A-4EF3-A113-B1A3884B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EF36-0728-4F34-A6F9-2A599784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F464-BA33-4541-A555-11F64C59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1561-C17C-4625-93A0-E4BF0FDB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F334-4451-4103-B71E-2860092B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C1049-934F-4948-AA2E-086FA2F6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BC25B-830F-4A01-80A1-2BC00CE2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F5C37-14C4-41D4-84E2-6E08C76A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FFEFD4-8E39-4101-9623-8E119A71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9F4B3-52DC-4322-828D-60B0851B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3A94-80DD-42D7-8460-64BAE9A8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52C457-4908-44BF-BBF0-8DEFF404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543C8-B509-413E-A0E8-A2D12717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EBE00-1329-4BF4-8F37-C7BC7BA8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6F00A-4A4A-4539-B589-62E24710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16590-90A3-4161-871F-95A82672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D1852-3BC2-4375-8B7C-FA9ECC8C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A3C11-1BD4-440B-A0C7-DF1E67CA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C303C7-C1BE-4B1D-8706-C8586EE9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3B6875-147D-4A15-B462-E662A5E8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D8DDAC-170B-4D23-A818-E77D598D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7E9-92A2-4934-99DF-D2DFB453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961F3D-DD58-4DF9-860D-590BE1AE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D6B79C-4082-4504-931B-F81111F7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BB7910-45DA-436E-A140-F8AA6492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9E1673-2667-4B67-8212-801C1766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13BA17-022B-4FF3-8F52-1BCECB4E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86DD7A-3E32-48B3-B5D0-BE68C53D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89BCA7-2BC6-4E6E-A848-F51F0FD6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468A35-8F0E-4360-A4EE-FC20E741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F1DE23-65EB-4DAA-9BFC-DA43DC0C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557EA8-D586-4083-BF2E-1C80CB2C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4E35-80CB-4FFF-BB55-6E3A1D18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F9513-C6C2-4DAD-99DA-8BD645DE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B05DA-C86B-4CED-9B42-E28D1711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070796-712E-46F4-BE21-B4C6E22D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C03D9-51AE-4D78-B427-DC39FC40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9365A0-2866-491B-AD1B-5072BDB3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27B24D-B52F-4F99-AE1D-B59900AD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B8C7D8-F776-4194-86D5-96B338CE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4C854-998E-4B78-A647-C2F0104B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2D6D96-1187-4683-AA13-A873C7D4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6148FB-846A-4879-8A9E-79E65F5B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502B-90C8-4523-B22A-FCCD5A43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44BD9F-92E8-4A69-8D3B-677DE3E0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7C8AC-2D41-4852-8638-F241536D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6AD67-4DA3-4473-9B6E-924BFD63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28DCB-5B5F-48B1-8C20-366BBA64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FF391-2433-4451-84CF-6DCF5DD0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21C1F-0AE1-49C8-812B-39A26A87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AFCAD-83F4-4CEE-AF76-1B5EAB08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40B5F-563D-4EC6-946D-1BE6CDA4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9C611-F061-45AD-9D32-094B7CFC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0AF5B-6D2D-4973-BC8D-3B841ABA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6FE-1658-4529-8987-D106DBD0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188C3-C333-41ED-AF30-8EEA893F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A28EE-5044-46F6-85B5-672E5963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FA0AD-4087-422F-9629-693C5DEA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BB821D-6F56-4BA9-8BE6-9EE21947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AD3747-8D38-419C-A815-5ED3A306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884E62-FB06-4987-A4FF-FF76BA1A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BDBE0B-E20E-4034-AD1E-558C5343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765E74-1E2C-4E73-A032-47DD59AD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F03203-DE50-4166-A075-658C38C1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E33AC4-4A08-4793-803D-AEF8370A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3AC9-203F-4C17-B7FE-B5379D50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41D918-7ABD-4A4F-8AEF-50BA0764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BD9236-4860-41A3-B52E-03098910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9F3CBA-A533-41FD-80B5-0A0AF522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2FDB04-046C-486F-BCC2-5B2D0321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6AC352-F8B7-4B93-9A7F-D3C5B99E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AB13B-67F5-413B-8E0A-38336433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D552D-E2D5-48C1-976C-D17745F6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638BE-62C4-43BC-A58C-9FE6EB15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18CFE-3616-46CA-83A0-DF5184F6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A1B2C-B223-4475-B10A-37226E1B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3B8B-0976-4D87-930D-3FF86BBC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CB69A-B6B3-4F69-AC33-80FC96C8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91D74-63A1-40B7-8604-EC667374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AB544-54C5-4476-ADF7-6EA09951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B6055-4AF6-4F18-A3C8-CAA2A1ED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46F9F-2CDE-4CC2-8EBE-DA80ABB3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3A56F-5874-48C7-92CB-7C349CF0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154E2-8DC5-4FF0-A1B0-D72BC7FC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7B0F-F4EA-4665-A297-90AB434677B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8C23-0169-48C9-BA18-B97070505CBD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CFDB-BEDE-4189-999D-CC1E8AEDDD83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CE4A-AB00-40B6-8E52-9DEEC74AF13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22DB-698E-4C83-B8AC-B44F823E27F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C977-6B18-47C1-B710-D0991BF72F9D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FDB4-B54C-4025-9E3E-C7139C66C783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70DE-88FA-4058-AE89-5035E186EF5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P ON A ROLE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85520" y="15001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92d050"/>
                </a:solidFill>
                <a:latin typeface="Tw Cen MT"/>
              </a:rPr>
              <a:t>GREEN CLIP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Is the “devil's advocate”, why something may not work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You look for the downfall in the argument, question all ideas and thought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Tw Cen MT"/>
              </a:rPr>
              <a:t>BLUE CLIP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focuses on creativity: possibilities, alternatives, and new idea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You say "what if... and tries to get others to see new ways of thinking or visualizing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ff0066"/>
                </a:solidFill>
                <a:latin typeface="Tw Cen MT"/>
              </a:rPr>
              <a:t>PINK CLIP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manages the thinking proces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You organize the data and connects all the ideas together by summarizing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25744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aa72d4"/>
                </a:solidFill>
                <a:latin typeface="Tw Cen MT"/>
              </a:rPr>
              <a:t>PURPLE CLIP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calls for information known or needed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You keep asking questions about what's missing, what don't we know? what do we need to find out?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ffc000"/>
                </a:solidFill>
                <a:latin typeface="Tw Cen MT"/>
              </a:rPr>
              <a:t>ORANGE CLIP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signifies feelings, hunches, and intuition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You use your instincts, respond from gut and emotion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w Cen MT"/>
              </a:rPr>
              <a:t>YELLOW CLIP</a:t>
            </a:r>
            <a:r>
              <a:rPr b="1" lang="en-US" sz="19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symbolizes values and benefits and uncovers why something may work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This person looks at the morality of the problem in connection with society and looks out for the best interest of all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2:08:50Z</dcterms:created>
  <dc:creator>Mohini</dc:creator>
  <dc:description/>
  <dc:language>en-US</dc:language>
  <cp:lastModifiedBy>Mohini</cp:lastModifiedBy>
  <dcterms:modified xsi:type="dcterms:W3CDTF">2008-11-24T02:23:36Z</dcterms:modified>
  <cp:revision>4</cp:revision>
  <dc:subject/>
  <dc:title>Slide 1</dc:title>
</cp:coreProperties>
</file>