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742-E310-4D4A-8633-764E9DE7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28D-4BA1-4C56-A768-A295F58F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3A0-BB63-47B7-99C5-A09451BF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20F-657B-4023-890E-84C4D6C8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D44B-06F5-4C70-B912-DC9A018B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2860-C0AF-42CF-A628-47721A64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F9C4-E289-43B7-B299-AE63447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EB71-9863-4664-9E18-A8F34B50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4927-5D5B-4FD2-9E6B-1786C4B9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7D25-E88F-4605-BB0C-D842346A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8DD9-9C7B-4AE4-B663-6E25CA0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FE1-EAC5-4589-BE88-48B70FA3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3BBE-7345-486F-81AC-02AC0B5D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7D4-0E60-49B0-9FEE-77A52B72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9450-D9B0-4FA1-8418-91EEDB0E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F405-FB6C-4928-84B1-B4DA0BCC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FD47-2FC2-460B-A9ED-E4093626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7687E-06F7-47D7-9445-13721FE9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1CD16-237E-45FA-853D-DB013A76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F31D6-1335-463B-A240-CFFC8A40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0FC8A-75AF-473E-98EA-BEDEE703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CEBB5-B6E3-480C-95F5-D0B9C52A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7F9-196B-4F58-8CC7-4948F701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A5327-9AA9-4804-B1C8-2207739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F0ADC-A0E6-4422-96B2-0CBC266F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2554A-FD83-4A4D-A2FF-2FEE7D0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7AA2F-78A7-4161-9B31-EF1FAEA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8E749-28AD-4221-9453-C477896A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AB667-B62D-40C4-8DEF-CF0A6FF7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83FB8-8B93-46FA-83FB-00572EC4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79C23-5F9E-494D-B29C-4FFB7655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8A19A-3C36-4B5C-AF22-A4DBAF1D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D2CB2-B75B-43DF-AEB7-B22484F6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B13-6528-406F-A117-9F8B01B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2DD68-210B-4A32-9572-8BD41684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E4340-A47F-430D-A454-B8D63AC0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C524D-01F8-4579-ABE7-613F0783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CB4003-364D-458E-B760-C85D4C54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5D5C5-DC64-4210-8328-F3DBB944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11C0B-5315-414A-945E-C20A9908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5B40F-5E56-4C16-9DCD-AB53AC59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8BDF8-4E6D-47FD-BA1C-FB796551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1F4BF-2D24-4525-B53E-312FF86F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18A61-59D5-4948-8BC9-FA56F0D8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242-2357-4405-A930-67F596DA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D6528-996C-4D17-A9E1-9EC403FB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A6583-0C4F-4469-9641-02ECC58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678F1-D8F1-4C56-BA1E-D3D4791A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7BD26-2CD2-4F94-A3A8-473C0127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72309-D4FF-483C-BEBB-A39474C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E1BE1-AF2C-4181-902D-436BFB3F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F9A5C-F353-4ED7-BF76-20A1D3F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94E6D-C6B5-4844-9AC1-B8F641F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2C4CC-85F5-4DD1-B3E1-DB5D5EB4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73705-54D1-41EB-AB98-EEB8215D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41E-25D7-4019-84B1-78AEED08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E632A-AA27-4BBC-917F-D1F4508B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E13FC-E81C-487C-9662-80A99D5F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77A3A-FD65-478F-AA1E-D8B90A87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21E28-667B-4082-890C-5F426D2A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BA6DA-399B-4DE5-BB7E-3E86DA43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57B94-133A-49D6-807F-46A0CC06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369B7-A973-418D-8AF6-9F0AF810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8BD61-C9EF-4A15-847D-DDEBC5DA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3DFD-2605-4838-AA0D-A0176079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D58E8-925B-4A0D-87BE-81FCBFC7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100-9DDA-4B42-9EE7-165BCD66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6735-F5C6-493F-B8B9-41D90592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F55C3-914B-49EA-BCE2-FF66CA87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71430-EDD1-49CF-8AD4-CB85760B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4ADA0-93E7-4D82-91C0-89DA566D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93D78-3CAC-487F-87FE-48226C5E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A497D-E0B3-4E64-AD46-B213CF89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94AFD-1F53-4148-982D-0AF9A11F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A1FB9-AC60-44AB-BAB6-1F883EEE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514CB-36D0-4043-A251-69422139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B7AC0-6597-47D0-8481-E237ED8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ED0-CB70-429E-97B9-B493E41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CBB97-5736-4A3B-9E10-5F75FA78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27585-2F4E-4485-94B4-FAC51797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328F0-B47C-4E63-BD2C-F11193C5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EE40D-3CA1-41E3-90A8-D66EB07F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2A815-EBD7-444C-8824-E852F927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A7FA5-55B3-4548-AF5F-DB264F8C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5709B-06ED-4C11-B736-A619819A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C4C18-360B-4A05-9577-A5BA8E46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3378F-6325-40F8-B0D9-03B17811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1ECA5-F4A7-4AF9-89E0-EEA04A93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542-D49B-4707-8439-68FDFFBA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600FC-EF69-428D-B673-10F5468A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57362-846B-4BE7-A144-487FA9E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2F617-014F-493F-856A-D791FFD6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46FA-A2E9-4EC3-9BE9-7444B40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862DC-7D8F-4CD5-A634-C28A59BF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F0CF0-B2B7-4994-AC4F-99F509B3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D5BB6-7B4E-4FE5-A8D6-3C784880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5396-7CB9-4C4A-986F-E4EFB51E8C1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E67C-6BC5-40D4-9BE2-E190B635253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A58D-D52A-408C-B700-4724FD03153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BCE-8F21-4567-8AA7-446A7B1438F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E24F-9CFC-4310-91BA-146449A668E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FC8A-D178-4DC7-B09F-93A692ED146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38A-4163-44DE-8B37-020B7EDCDC4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A982-45EF-43F6-83F9-15BE143242E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P ON A ROLE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85520" y="15001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92d050"/>
                </a:solidFill>
                <a:latin typeface="Tw Cen MT"/>
              </a:rPr>
              <a:t>GREEN CLI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Is the “devil's advocate”, why something may not work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look for the downfall in the argument, question all ideas and thought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w Cen MT"/>
              </a:rPr>
              <a:t>BLUE CLIP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ocuses on creativity: possibilities, alternatives, and new id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say "what if... and tries to get others to see new ways of thinking or visualizing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ff0066"/>
                </a:solidFill>
                <a:latin typeface="Tw Cen MT"/>
              </a:rPr>
              <a:t>PINK CLI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manages the thinking proces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organize the data and connects all the ideas together by summarizing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25744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aa72d4"/>
                </a:solidFill>
                <a:latin typeface="Tw Cen MT"/>
              </a:rPr>
              <a:t>PURPLE CLI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calls for information known or needed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keep asking questions about what's missing, what don't we know? what do we need to find out?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ffc000"/>
                </a:solidFill>
                <a:latin typeface="Tw Cen MT"/>
              </a:rPr>
              <a:t>ORANGE CLI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ignifies feelings, hunches, and intui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use your instincts, respond from gut and emo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w Cen MT"/>
              </a:rPr>
              <a:t>YELLOW CLIP</a:t>
            </a:r>
            <a:r>
              <a:rPr b="1" lang="en-US" sz="19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ymbolizes values and benefits and uncovers why something may work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is person looks at the morality of the problem in connection with society and looks out for the best interest of al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2:08:50Z</dcterms:created>
  <dc:creator>Mohini</dc:creator>
  <dc:description/>
  <dc:language>en-US</dc:language>
  <cp:lastModifiedBy>Mohini</cp:lastModifiedBy>
  <dcterms:modified xsi:type="dcterms:W3CDTF">2008-11-24T02:23:36Z</dcterms:modified>
  <cp:revision>4</cp:revision>
  <dc:subject/>
  <dc:title>Slide 1</dc:title>
</cp:coreProperties>
</file>