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F5C-69FA-4BE0-AE69-C7C7813F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32E-92A2-4A34-A356-A55B894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FF1-D327-4D0F-BCBE-D5518E07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39A-6F5F-4EEF-BAFF-3889B79D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40F89-B456-4D9C-9355-F30DA4F9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FBC9-F46D-4CAE-A018-1F8BA74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5954-F7E1-4D27-A724-01B82FC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12AED-590F-44B5-9C3C-E06F4E6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85A59-B906-4562-B06B-ACCA3B81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9C576-AC4E-4DBB-ACDF-34943397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911C6-CC25-47A0-8401-90AD1D0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FC5-1E9E-4DC7-9088-478369E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6C4A-036B-4944-A15A-377B4D7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7DA8D-4ED9-439D-9022-9A2B87D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A8DC-4D99-4541-B777-A4B6C19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A3E37-8DBE-4F21-B628-9F024217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8A3FB-77D4-422E-AC8D-02EF7C08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71108-B6BF-4AF6-BF52-D8CFEBA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FED89-CDE8-4B86-952C-C1DFAF1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6C0F3-91DF-4FB6-B1CF-9F12182B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5CC98-3C93-4A1D-829F-EF8C9758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909D-DF45-4E0D-B32C-AB18E93B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26C-E526-4B9C-8584-CB1C564B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325A8-9AC8-4FF3-851A-0E387541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25E28-5067-4C36-B6A5-80108BD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3428B-2E12-4D9B-8F53-C2A108A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EF7C0-B83B-4182-B4D1-63F3F69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EEDDB-CD87-412C-9CA6-990BBD1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620C5-197D-4363-9429-AA530F04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2A819-5171-4A8C-89F7-E0114F1E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E0074-22C8-4EA2-939C-187C4472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1A1D7-5FA4-4423-A0FC-6641148C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A3F3F-CC1C-435C-9B4B-10A1DA97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7AE-F2BC-45FD-B1FD-E3E573C6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165C6-4F44-4FD5-A204-9139DAD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0939C-36BA-4FFF-AB1A-27CEDF9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1D7A0-2791-4E53-910F-18C0F7E5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D9C0F-6CC7-4F61-A17E-8AAC4D1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EB75E-8A6E-4727-8701-DA32A72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CF390-C26B-49D7-966F-2BDB18F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54128-4E21-49E9-A419-15AE482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66BE6-C9F2-45A0-BD88-21B02D8D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BD1FE-38BE-4641-AE4A-80AC71CA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E4610-7728-418B-88EF-69A501C8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23F-A302-44D9-A9EA-505BE17C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1E940-BCB2-420B-9EC9-E0D1377B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D10D5-360E-4DA7-9FC7-44F5348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2D0F0-047E-4FD7-A979-1DA21BD2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487B0-33FD-46C0-8184-5136DDBE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B0087-A589-4AD2-BFAC-86193CBF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DF9D9-7F43-490F-86B6-6542D80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F634F-2647-4CDD-868A-CFED3BA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06E1A-CC9C-4332-A978-FA71847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36088-A4A0-43B2-AC80-029C4D5B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B4D1B-3C2F-4E2E-A9B7-4CF8DCEE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F27-ED52-4DF4-BC13-2C75659D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9F35F-D8FC-4DA0-A203-9B240142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F37BF-E2F4-40AF-BD02-3FA6AD24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BA578-E45D-41AE-97D3-C4868286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67970-A5D0-4EEF-8541-BCF2F57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A2CDF-4BEA-4107-B33F-9476C2E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DE1BC-979A-4BBC-B2ED-4F840CD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168DE-EA1F-48FE-B2C3-39D14DF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5BD3C-9F93-49B9-A4A8-3B9458E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9B15D-9CE4-40B0-94E4-E51C169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29D62-855C-4983-ACC1-EBB1574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9A8-CD70-4C7C-9E8E-1E3D5D9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DC84A-419E-40B7-BA8A-5E0460F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8B804-BEF1-43A7-9DF7-2F0A46C2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F9B92-5D6A-47F3-90AB-F392548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0C6-CB66-4B85-9096-541AAE15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546-0CA2-4463-9D47-9C70B7F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C7E-AE0A-47C0-BD45-8D59664EF451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687D-91EC-4B71-9028-5728346608FE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1D7-86E5-470F-AF12-FFCB98753E56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59C-4DC0-42B6-BCD6-EC3D1306F1BA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06F-5384-4B60-A341-08E65CF1F75F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4D38-AD59-431B-80AD-0E802BA14DFB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360" y="1909440"/>
            <a:ext cx="7416720" cy="46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Kines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body movement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Proxem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interpersona sa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Chronem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silences separating verbal conversations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Ocules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eye contact or avoidan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Hapr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body contact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Physical Appearan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Title 1"/>
          <p:cNvSpPr/>
          <p:nvPr/>
        </p:nvSpPr>
        <p:spPr>
          <a:xfrm>
            <a:off x="826920" y="-243000"/>
            <a:ext cx="7543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fff"/>
                </a:solidFill>
                <a:latin typeface="Palatino Linotype"/>
              </a:rPr>
              <a:t>Types of Non-Verbal Language</a:t>
            </a:r>
            <a:endParaRPr b="0" lang="en-US" sz="5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00000" y="685440"/>
            <a:ext cx="7329600" cy="53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UNCERTAINTY AVOID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: the way cultures adapt to chang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High uncertainty avoidance: countries that tend to avoid uncertainty and prefer rules/rituals. They place value on conformity and have little tolerance for outsid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we uncertainty avoidance: value risk taking seek change and don’t mind differe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usiness Implication -&gt; easier to do business with low uncertainty avoid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5640" y="33336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MASCULINITY AND FEMINIS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sculinity – degree to which cultures values, assertiveness competition, ambition and accumulate of good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eminity – refers to degree that cultures value nurturing, gamily, social support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*many cultures still encourage gender note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S: Japan and Mexico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EM: Scandanavia and Thailand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0000" y="685800"/>
            <a:ext cx="732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INDIVIDUALISM VS. COLLECTIVIS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: Extent to which people are expected to make their own decision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dvidualistic cultures encourage citizens to make personal choices/stand up for themselve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Collectivist cultures value ...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Collectivism -&gt; Cuba and Chin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dividualism -&gt; Canada, U.S. and Australi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4000" y="685800"/>
            <a:ext cx="7545240" cy="54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ORIENTATIO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ng-term orientation: Value thrift and perseverance to achieve long term goals (even future generation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Short-term orientation: “now” is more important than “then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These cultures are results oriented, make decision based on short ter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Outsiders who contribute are welcom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Short term will offend long term with deadlin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341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ANGUAGE : Even if you are negotiating with another English speaking person (U.K., Australian, etc.), not all of our words mean the same to our counterpart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NON VERBAL COMMUNICATION: Every culture has their own gestures (are different from one culture to the next). You should research into body language, gestures, personal distances, appearance and modes of greeting/negotiating styles. E.g. Japanese may nod up and down (but this means no)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Negotiation Styles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11280" y="907920"/>
            <a:ext cx="768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3.) FORMS OF GREETINGS: Handshakes in some cultures are inappropriate. Some cultures do not like to make any physical contact at all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usiness card should be in the visitor’s language on the one side and the receiver's language on the oth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.g. If a visitor to Japan is greed with a bow, he or she should return the bow at the same angle. To make a deeper bow confers power upon him/h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4.) STYLE OF DRESS: Dark business suits are considered more forma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japan, Business people should dress more formal and wear slip on shoes (you will remove them frequently)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Brazil, it might be accepted for men to dress more informal however women should be formal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39640" y="112536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BUSINESS PROTOCOL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:  Rules of correct or appropriate behaviour to follow when meeting with officials or business people in another n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GIFT GIVING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:  In some countries, the visiting business representative is expected to present a gift to the host (respect). In others, it wuld be considered a bribe. If a gift is expected, find out what they would generally like. E.g. In many Asian culturs, the number 4 is associated with death (therefore wouldn’t bring them 4 of anything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Japan, traditionally expect a gift during a first meeting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uropeans generally do not expect/accept gifts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Business Protocol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10920" y="40464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PUNCTUALITY: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 Find out if punctuality is valu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N. Americans, Asian and Europeans value punctuality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Latin countries, do not consider it to be rude, if they show up late for a meeting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SCHEDULE OF MEETINGS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rance; many businesses are closed in Augus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U.K.; many factory towns have a half-day which means they are closed for the afternoon (varie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uslim businesses provide two prayer breaks during the days when no appointments are schedul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sraeli businesses generally do not operate on Saturday (for it is considered a holy day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uslim countries generally considered Friday not a workday because it is a day of worship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e aware of national and religious holiday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404280"/>
            <a:ext cx="7777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BUSINESS ENTERTAINING: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cultures believe that there should be entertaining ( lunches, parties, after hours etc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EMPLOYEE MANAGEMENT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cultural values have been incorporated into the laws of each country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exico, lunch usually starts between 2:00 – 3:30 p.m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Greek businesses often close for a break between 2:00 – 4:00 p.m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DECISION MAKING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N. America and Latin America decisions are generally made top-dow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many Asian cultures, decisions are made from the bottom up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00000" y="685800"/>
            <a:ext cx="732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RULES OF THUMB FOR DOING BUSINESS GLOBALLY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e prepar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Slow Dow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stablish Trus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Understand importance for language and culture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spect the culture and the way of doing busines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5640" y="1268280"/>
            <a:ext cx="7175520" cy="509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large companies still make mistakes when marketing their products outside of their own border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The name Coca-Cola in China was translated into “Bite the tadpole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Taiwan, the translation of Pepsi’s slogan “come alive with the Pepsi Generation” was “Pepsi will bring our ancestors back from the dea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Chinese, the KFC slogan “ finger-licken good” came out as “eat your fingers off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When GM introduced the Chevy Nova in S. America, “nova” means “ it won’t go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Italian, Schweppes Tonic Water translates into Schweppes Toilet Wat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Translation Errors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141264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Dutch anthropologist who developed theories to help business people across cultures work together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POWER DIST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Studies how the difference in power is perceiv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Cultures the consider people superior due to social status, gender, race, age and education, gamily background etc. show a </a:t>
            </a: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high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power dist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Cultures that assume equality among people and focus more on earned status are </a:t>
            </a: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low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power dist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High: Mexico, Indonesia and Indi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w: Austria, Israel and Canad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ffffff"/>
                </a:solidFill>
                <a:latin typeface="Palatino Linotype"/>
              </a:rPr>
              <a:t>Geert Hofstede- Cultural Dimension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0:25:50Z</dcterms:created>
  <dc:creator>Aron Tolentino</dc:creator>
  <dc:description/>
  <dc:language>en-US</dc:language>
  <cp:lastModifiedBy>User</cp:lastModifiedBy>
  <dcterms:modified xsi:type="dcterms:W3CDTF">2013-02-15T17:59:43Z</dcterms:modified>
  <cp:revision>6</cp:revision>
  <dc:subject/>
  <dc:title>PowerPoint Presentation</dc:title>
</cp:coreProperties>
</file>