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75F-664D-497B-B804-837011DE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180-0D84-46AC-A7DC-7FB757CD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6A2-97A8-4987-8438-15DB185E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66E-8F02-45B0-8EB4-3AA50A34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40EBC-35C7-4598-8D91-C5767D31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55F99-7496-4667-A06E-FBDA8DE7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B5BD9-9F37-4E5A-822A-09B8B5F1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078F8-BBB4-4949-8F85-B5484F2D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0885F-49D3-41B3-99BD-B55A33BC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B25C9-67DF-4E21-9758-88CC003A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C6A09-D714-4A06-A0B4-6DD6BC05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82B-0018-4D8B-B480-4E901DB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4D4E9-C5C8-4323-99C5-76656B0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44D5B-7913-4F01-B611-2CBFE52B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8456D-5F4D-4002-8B83-71D62070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D06C8-46A8-4C06-A6B4-72D61DC1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529E7-D623-4E81-8479-76CFD2E5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EF2EF-8362-4790-BE07-3154B270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54D44-B17E-41E4-81B2-1B7EC288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453FB-6DB6-43FE-8B61-862C3A77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99BD8-6DB5-4739-9BF9-350739BC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06589-48BD-4F4E-9D66-11384A05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F09-FE65-46DA-BE50-9FFA80E5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F711A-9FB5-49D9-9ED0-C98835A4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6015D-A712-4901-9E5A-A8C7D69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63D0E-AD74-4FFB-A424-7F9D445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025C0-5337-44F1-A271-E810D11E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E53B6-C967-42A1-B3C1-ED234D8C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4D78A-C53D-409A-9686-723B54D4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03563-851B-4978-849B-C113D70A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86A50-C115-43C7-8F59-9C9F70A9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E867E-19DF-4CF3-8090-EA1166A6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C6168-ECA9-4674-88D8-45EFF1ED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33F-E533-4E68-8532-CEFFCE65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1226F-D596-4881-B4D8-C10B4C86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BB39C1-9757-4729-AED3-B8AECEBB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00C53-8DB1-45B3-A2A7-F99CD605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B89EF-42CC-4CD1-8B0C-C384837B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05572-AAE6-494E-808F-029CFA37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61E88-1AD3-46BD-A558-70EC8A0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42BC0-F057-4CAF-81B8-75AC8917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D9A85-3CE8-4323-A35B-EB4BD5DA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5EAAA-E77F-4529-AB21-3D212DB5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B3A85-5490-458E-B73F-A89A4433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FEA-8490-4F91-A032-94CC76FF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08838-4540-47D7-939A-4163E04A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4A9C2-2FFA-4793-BB4D-BEA20F8C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C679E-D0A1-45BF-8649-272FECB9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B9E17-0413-4C14-A4EE-D04139BF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F778F-61FB-4609-B737-460DC8E4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0C953-722A-4DBF-91AF-E025222D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BAAEB-27EC-4188-884A-C223930E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5908A-3A3C-4634-BADF-353CFC59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F4E17-1843-4890-B7A0-B7134B2E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ED4C9-5F9F-4BDC-B14E-40AFB6F1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501-24F6-4347-A517-EE4D3BAA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6D3AA-F4A2-4E26-B98A-BA4571CA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81AAFB-F108-45EC-998B-6F681C39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4F4DD-209C-4558-9EE5-0F1ECAB2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74C1B-7B35-4A6F-807B-D882EA07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25E54-8708-4A4D-812E-44205BE2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4231EC-BB8D-47E5-B0D2-28E38BF4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6C9B7-BE96-4C4C-AE8A-F21D267C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ADA93-4E20-4511-9189-27D32632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B03CC-021F-49DC-9BAB-FC49B6C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8A78E-4463-4DCE-B2BC-7D55A1E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CA0-B7A0-4A5A-AD96-06FD6149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8D1B4-FFC4-47C5-879E-A09A13CA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F9F93-8742-40AA-B798-112F4FCC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C4992-FC08-4616-BDF9-D97BBD8A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C38-7C9B-4103-A2A4-6AAF86DF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021-E184-45C6-BDC6-2544056D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C7E-92E5-4B61-84B9-5EDEE1E089EA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514C-DA72-413F-B221-3567BE973012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8377-F006-48D0-AE6F-BA844C1655DD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32E7-1066-4CED-A2B8-BB9776E83754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DC9D-4636-4E0A-B2F7-ED3CF83ADEA3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10FA-7CBF-4361-B750-DEAC3A795C83}" type="slidenum">
              <a:rPr b="0" lang="en-CA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4360" y="1909440"/>
            <a:ext cx="7416720" cy="46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Kines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body movement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Proxem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interpersona sace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Chronem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silences separating verbal conversations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Ocules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eye contact or avoidance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Haprics</a:t>
            </a:r>
            <a:r>
              <a:rPr b="0" lang="en-CA" sz="3000" spc="-1" strike="noStrike">
                <a:solidFill>
                  <a:srgbClr val="ffffff"/>
                </a:solidFill>
                <a:latin typeface="Palatino Linotype"/>
              </a:rPr>
              <a:t>: body contact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 u="sng">
                <a:solidFill>
                  <a:srgbClr val="ffffff"/>
                </a:solidFill>
                <a:uFillTx/>
                <a:latin typeface="Palatino Linotype"/>
              </a:rPr>
              <a:t>Physical Appearance</a:t>
            </a:r>
            <a:endParaRPr b="0" lang="en-US" sz="3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Title 1"/>
          <p:cNvSpPr/>
          <p:nvPr/>
        </p:nvSpPr>
        <p:spPr>
          <a:xfrm>
            <a:off x="826920" y="-243000"/>
            <a:ext cx="7543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ffffff"/>
                </a:solidFill>
                <a:latin typeface="Palatino Linotype"/>
              </a:rPr>
              <a:t>Types of Non-Verbal Language</a:t>
            </a:r>
            <a:endParaRPr b="0" lang="en-US" sz="5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900000" y="685440"/>
            <a:ext cx="7329600" cy="53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UNCERTAINTY AVOIDANC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re: the way cultures adapt to chang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High uncertainty avoidance: countries that tend to avoid uncertainty and prefer rules/rituals. They place value on conformity and have little tolerance for outsid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Lowe uncertainty avoidance: value risk taking seek change and don’t mind differe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Business Implication -&gt; easier to do business with low uncertainty avoidanc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755640" y="333360"/>
            <a:ext cx="784872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MASCULINITY AND FEMINISM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sculinity – degree to which cultures values, assertiveness competition, ambition and accumulate of good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Feminity – refers to degree that cultures value nurturing, gamily, social support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*many cultures still encourage gender note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S: Japan and Mexico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FEM: Scandanavia and Thailand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0000" y="685800"/>
            <a:ext cx="7329600" cy="51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INDIVIDUALISM VS. COLLECTIVISM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Re: Extent to which people are expected to make their own decision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dvidualistic cultures encourage citizens to make personal choices/stand up for themselve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Collectivist cultures value ...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Collectivism -&gt; Cuba and China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dividualism -&gt; Canada, U.S. and Australia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4000" y="685800"/>
            <a:ext cx="7545240" cy="547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ORIENTATION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Long-term orientation: Value thrift and perseverance to achieve long term goals (even future generations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Short-term orientation: “now” is more important than “then”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These cultures are results oriented, make decision based on short term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Outsiders who contribute are welcomed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Short term will offend long term with deadlin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4360" y="134136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74840" indent="-45720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LANGUAGE : Even if you are negotiating with another English speaking person (U.K., Australian, etc.), not all of our words mean the same to our counterpart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474840" indent="-45720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NON VERBAL COMMUNICATION: Every culture has their own gestures (are different from one culture to the next). You should research into body language, gestures, personal distances, appearance and modes of greeting/negotiating styles. E.g. Japanese may nod up and down (but this means no)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474840" indent="-457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474840" indent="-45720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474840" indent="-457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900" spc="-1" strike="noStrike">
                <a:solidFill>
                  <a:srgbClr val="ffffff"/>
                </a:solidFill>
                <a:latin typeface="Palatino Linotype"/>
              </a:rPr>
              <a:t>Negotiation Styles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11280" y="907920"/>
            <a:ext cx="76896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3.) FORMS OF GREETINGS: Handshakes in some cultures are inappropriate. Some cultures do not like to make any physical contact at all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Business card should be in the visitor’s language on the one side and the receiver's language on the other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E.g. If a visitor to Japan is greed with a bow, he or she should return the bow at the same angle. To make a deeper bow confers power upon him/her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4.) STYLE OF DRESS: Dark business suits are considered more forma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japan, Business people should dress more formal and wear slip on shoes (you will remove them frequently)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Brazil, it might be accepted for men to dress more informal however women should be formal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39640" y="112536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BUSINESS PROTOCOL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:  Rules of correct or appropriate behaviour to follow when meeting with officials or business people in another n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GIFT GIVING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:  In some countries, the visiting business representative is expected to present a gift to the host (respect). In others, it wuld be considered a bribe. If a gift is expected, find out what they would generally like. E.g. In many Asian culturs, the number 4 is associated with death (therefore wouldn’t bring them 4 of anything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Japan, traditionally expect a gift during a first meeting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Europeans generally do not expect/accept gifts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900" spc="-1" strike="noStrike">
                <a:solidFill>
                  <a:srgbClr val="ffffff"/>
                </a:solidFill>
                <a:latin typeface="Palatino Linotype"/>
              </a:rPr>
              <a:t>Business Protocol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10920" y="404640"/>
            <a:ext cx="80643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PUNCTUALITY: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  Find out if punctuality is valu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N. Americans, Asian and Europeans value punctuality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ny Latin countries, do not consider it to be rude, if they show up late for a meeting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SCHEDULE OF MEETINGS: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France; many businesses are closed in Augus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U.K.; many factory towns have a half-day which means they are closed for the afternoon (varies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uslim businesses provide two prayer breaks during the days when no appointments are schedul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sraeli businesses generally do not operate on Saturday (for it is considered a holy day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uslim countries generally considered Friday not a workday because it is a day of worship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Be aware of national and religious holiday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9640" y="404280"/>
            <a:ext cx="77774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BUSINESS ENTERTAINING: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ny cultures believe that there should be entertaining ( lunches, parties, after hours etc.)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EMPLOYEE MANAGEMENT: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ny cultural values have been incorporated into the laws of each country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exico, lunch usually starts between 2:00 – 3:30 p.m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Greek businesses often close for a break between 2:00 – 4:00 p.m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DECISION MAKING: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N. America and Latin America decisions are generally made top-down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many Asian cultures, decisions are made from the bottom up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00000" y="685800"/>
            <a:ext cx="7329600" cy="519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RULES OF THUMB FOR DOING BUSINESS GLOBALLY: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Be prepared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Slow Down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Establish Trus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Understand importance for language and culture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Respect the culture and the way of doing busines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755640" y="1268280"/>
            <a:ext cx="7175520" cy="509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Many large companies still make mistakes when marketing their products outside of their own border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The name Coca-Cola in China was translated into “Bite the tadpole”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Taiwan, the translation of Pepsi’s slogan “come alive with the Pepsi Generation” was “Pepsi will bring our ancestors back from the dea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Chinese, the KFC slogan “ finger-licken good” came out as “eat your fingers off”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When GM introduced the Chevy Nova in S. America, “nova” means “ it won’t go”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In Italian, Schweppes Tonic Water translates into Schweppes Toilet Water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900" spc="-1" strike="noStrike">
                <a:solidFill>
                  <a:srgbClr val="ffffff"/>
                </a:solidFill>
                <a:latin typeface="Palatino Linotype"/>
              </a:rPr>
              <a:t>Translation Errors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11280" y="1412640"/>
            <a:ext cx="792144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Dutch anthropologist who developed theories to help business people across cultures work together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POWER DISTANCE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Studies how the difference in power is perceived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Cultures the consider people superior due to social status, gender, race, age and education, gamily background etc. show a </a:t>
            </a: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high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 power dist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-Cultures that assume equality among people and focus more on earned status are </a:t>
            </a:r>
            <a:r>
              <a:rPr b="0" lang="en-CA" sz="2100" spc="-1" strike="noStrike" u="sng">
                <a:solidFill>
                  <a:srgbClr val="ffffff"/>
                </a:solidFill>
                <a:uFillTx/>
                <a:latin typeface="Palatino Linotype"/>
              </a:rPr>
              <a:t>low</a:t>
            </a: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 power dist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High: Mexico, Indonesia and India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Palatino Linotype"/>
              </a:rPr>
              <a:t>Low: Austria, Israel and Canada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ffffff"/>
                </a:solidFill>
                <a:latin typeface="Palatino Linotype"/>
              </a:rPr>
              <a:t>Geert Hofstede- Cultural Dimensions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20:25:50Z</dcterms:created>
  <dc:creator>Aron Tolentino</dc:creator>
  <dc:description/>
  <dc:language>en-US</dc:language>
  <cp:lastModifiedBy>User</cp:lastModifiedBy>
  <dcterms:modified xsi:type="dcterms:W3CDTF">2013-02-15T17:59:43Z</dcterms:modified>
  <cp:revision>6</cp:revision>
  <dc:subject/>
  <dc:title>PowerPoint Presentation</dc:title>
</cp:coreProperties>
</file>